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3.wmf" ContentType="image/x-wmf"/>
  <Override PartName="/ppt/media/image4.png" ContentType="image/png"/>
  <Override PartName="/ppt/media/image19.wmf" ContentType="image/x-wmf"/>
  <Override PartName="/ppt/media/image1.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6600" y="647712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Risk Analysis</a:t>
            </a:r>
            <a:endParaRPr b="0" lang="en-US" sz="1200" spc="-1" strike="noStrike">
              <a:solidFill>
                <a:srgbClr val="000000"/>
              </a:solidFill>
              <a:latin typeface="Arial"/>
            </a:endParaRPr>
          </a:p>
        </p:txBody>
      </p:sp>
      <p:sp>
        <p:nvSpPr>
          <p:cNvPr id="7" name="Text Box 14"/>
          <p:cNvSpPr/>
          <p:nvPr/>
        </p:nvSpPr>
        <p:spPr>
          <a:xfrm>
            <a:off x="64378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2AAE-46ED-48FE-806E-74D8C27367F8}"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8819-690B-4A23-91E9-52EAD6020AF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052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0CAB-1D3B-44F6-865B-BB1A6E7F2C0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9938-ABAA-4B09-9502-304ED29AE8C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dy’s Comments on Risk Classification and Assessment</a:t>
            </a:r>
            <a:endParaRPr b="1" lang="en-US" sz="1800" spc="-1" strike="noStrike">
              <a:solidFill>
                <a:srgbClr val="000000"/>
              </a:solidFill>
              <a:latin typeface="Arial"/>
            </a:endParaRPr>
          </a:p>
        </p:txBody>
      </p:sp>
      <p:sp>
        <p:nvSpPr>
          <p:cNvPr id="1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of project finance transactions is a complex procedur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alyzed include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risk,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isk</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tic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risk.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the participants in each transaction analyze such risks in minute detail and put in place </a:t>
            </a:r>
            <a:r>
              <a:rPr b="1" i="1" lang="en-US" sz="1600" spc="-1" strike="noStrike">
                <a:solidFill>
                  <a:srgbClr val="000000"/>
                </a:solidFill>
                <a:latin typeface="Arial"/>
              </a:rPr>
              <a:t>structural enhancements</a:t>
            </a:r>
            <a:r>
              <a:rPr b="0" lang="en-US" sz="1600" spc="-1" strike="noStrike">
                <a:solidFill>
                  <a:srgbClr val="000000"/>
                </a:solidFill>
                <a:latin typeface="Arial"/>
              </a:rPr>
              <a:t> that seek to mitigate them.</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4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conta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our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ject contracts that, along with the project's physical plant, serve as the basis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technology and performance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ompetitive position of the projec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risk that counterparties present to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e the project's legal structure; an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financial risks that may affect forecast resul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isk Checklist – General Comments</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isk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versus Output Risks</a:t>
            </a:r>
            <a:endParaRPr b="1" lang="en-US" sz="2000" spc="-1" strike="noStrike">
              <a:solidFill>
                <a:srgbClr val="000000"/>
              </a:solidFill>
              <a:latin typeface="Arial"/>
            </a:endParaRPr>
          </a:p>
        </p:txBody>
      </p:sp>
      <p:sp>
        <p:nvSpPr>
          <p:cNvPr id="1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isk project financing is where a level of either price or volume risk (but almost never both) exists.  </a:t>
            </a:r>
            <a:endParaRPr b="0" lang="en-US" sz="20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ancings without contracts are typically for larger capital expenditure items have much higher equity funding, shorter terms (usually within 10-12 years), and higher spreads relative to the contract-supported forms.  </a:t>
            </a:r>
            <a:endParaRPr b="0" lang="en-US" sz="18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long term contracts does not necessarily mean unacceptable structure, but may call for different loan structures to assure faster prepayments in higher cash flow years and slower amortization in leaner year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8560" y="380520"/>
            <a:ext cx="62323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Risk</a:t>
            </a:r>
            <a:endParaRPr b="1" lang="en-US" sz="2000" spc="-1" strike="noStrike">
              <a:solidFill>
                <a:srgbClr val="000000"/>
              </a:solidFill>
              <a:latin typeface="Arial"/>
            </a:endParaRPr>
          </a:p>
        </p:txBody>
      </p:sp>
      <p:sp>
        <p:nvSpPr>
          <p:cNvPr id="12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ject should exhibit reliable revenue stream.  Therefore volume and price risks need to be carefully assessed.  The project needs to produce and sell its designed volume of output at certain minimum prices to account for downside or stress situation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project financing, the volume risk is not assumed by lenders either because of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mmitted purchase of the output, at some price by the sponsor or one or more users of the output, o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output is basically a commodity and the nature of the market negates the need for reliance on any one or more known purchasers.  </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output's nature, the price risks could be covered through comfort with market price, minimum price guarantees, or cost plus pricing arrangeme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hase Risks</a:t>
            </a:r>
            <a:endParaRPr b="1" lang="en-US" sz="20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a:t>
            </a:r>
            <a:endParaRPr b="1" lang="en-US" sz="2000" spc="-1" strike="noStrike">
              <a:solidFill>
                <a:srgbClr val="000000"/>
              </a:solidFill>
              <a:latin typeface="Arial"/>
            </a:endParaRPr>
          </a:p>
        </p:txBody>
      </p:sp>
      <p:sp>
        <p:nvSpPr>
          <p:cNvPr id="12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seldom applied to new technolog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ake technology risk if:</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nd proven technology is use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cilities are projected to remain technologically competitive; an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project life is longer than the funding life;</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ers do not want to be ‘first’ to bank a project with new technology.</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tried technology is incorporated into a new project, most financiers will require extra support. </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 provisions after the plant is complet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guarantee  </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ants will be required to ensure that the borrower applies generally accepted operating practices and obeys the applicable laws including environmental regulations.  (the "prudent operator" claus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st Over-run Mitigation: Limited Recourse and Funding of Cost Over-runs</a:t>
            </a:r>
            <a:endParaRPr b="1" lang="en-US" sz="2000" spc="-1" strike="noStrike">
              <a:solidFill>
                <a:srgbClr val="000000"/>
              </a:solidFill>
              <a:latin typeface="Arial"/>
            </a:endParaRPr>
          </a:p>
        </p:txBody>
      </p:sp>
      <p:sp>
        <p:nvSpPr>
          <p:cNvPr id="13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st over-runs are not covered by an EPC contract, various possibilities exist:</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rata funding by debt and equity up to a limit, after which equity is require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equity up to a limit (e.g. 5%) after which funding of over-runs is pro-rat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subordinated debt issued by the contractor to the project.</a:t>
            </a:r>
            <a:endParaRPr b="0" lang="en-US" sz="1800" spc="-1" strike="noStrike">
              <a:solidFill>
                <a:srgbClr val="000000"/>
              </a:solidFill>
              <a:latin typeface="Arial"/>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4" descr=""/>
          <p:cNvPicPr/>
          <p:nvPr/>
        </p:nvPicPr>
        <p:blipFill>
          <a:blip r:embed="rId1"/>
          <a:stretch/>
        </p:blipFill>
        <p:spPr>
          <a:xfrm>
            <a:off x="3581280" y="4038480"/>
            <a:ext cx="4653000" cy="212112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with EPC</a:t>
            </a:r>
            <a:endParaRPr b="1" lang="en-US" sz="2000" spc="-1" strike="noStrike">
              <a:solidFill>
                <a:srgbClr val="000000"/>
              </a:solidFill>
              <a:latin typeface="Arial"/>
            </a:endParaRPr>
          </a:p>
        </p:txBody>
      </p:sp>
      <p:sp>
        <p:nvSpPr>
          <p:cNvPr id="1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 &amp; Poor's study of the causes of credit deterioration in rated project finance transactions revealed that technology, construction, and operational problems have contributed to only 2 % of total project defaults over the last 10 year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 recently rated project had certain preconstruction site preparation activities </a:t>
            </a:r>
            <a:r>
              <a:rPr b="1" i="1" lang="en-US" sz="1800" spc="-1" strike="noStrike">
                <a:solidFill>
                  <a:srgbClr val="0066cc"/>
                </a:solidFill>
                <a:latin typeface="Arial"/>
              </a:rPr>
              <a:t>excluded from the EPC</a:t>
            </a:r>
            <a:r>
              <a:rPr b="0" lang="en-US" sz="1800" spc="-1" strike="noStrike">
                <a:solidFill>
                  <a:srgbClr val="000000"/>
                </a:solidFill>
                <a:latin typeface="Arial"/>
              </a:rPr>
              <a:t> contractor's scope of work.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ground was broken at the project site, unexpected soil contamination and unforeseen remediation activities raised the risk that the project would be delayed and require sizeable early draws on the contingency budget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additional labor and materials were excluded from the EPC contract, none of these costs or delays would be subject to the performance guarantees or delay damages included in the EPC contract. </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uation underscores how a comprehensive EPC contract can partially mitigate the impact of some construction risks. </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 Reference</a:t>
            </a:r>
            <a:endParaRPr b="1" lang="en-US" sz="2000" spc="-1" strike="noStrike">
              <a:solidFill>
                <a:srgbClr val="000000"/>
              </a:solidFill>
              <a:latin typeface="Arial"/>
            </a:endParaRPr>
          </a:p>
        </p:txBody>
      </p:sp>
      <p:sp>
        <p:nvSpPr>
          <p:cNvPr id="1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lay In Service Insuranc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an cover completion risk either through contract work policies or start-up delay policies, which latter cover the capitalised interest bill caused by a del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Guarante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requires the loan to be repaid by the Sponsor rather than the project’s cash flow either in full or on an agreed repayment schedule if the project is not completed by a certain date.  It is seldom used in Project Financing tod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verru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is case the Sponsors agree to provide only the overrun amounts above the pre-agreed debt and equity financing total.</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and-by Facility</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may be contingent underwriting facilities, or indeed money in an escrowed bank account, provided to cover cost overruns perhaps from a strong parent or related companies.  For example, interest may only be permitted to be capitalised to a given cumulative dollar ceiling beyond which the Sponsors must pay interest when du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iciency/Shortfall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though the project is producing cash flows and has met a performance Completion Test, an agreed amount of Sponsor support is available to meet cash flow on Debt Service shortfalls for an agreed amount, for an agreed period post-Completion, or for an agreed obligation e.g. interest up to a limit.</a:t>
            </a: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Contents</a:t>
            </a: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 Project Finance Analogies to Sub-prime Cri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Class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Risk and Examples of Project Failur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llocation and Probl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nalysis of Residual Expos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nd re-structure in the event of project failure</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 - Reference</a:t>
            </a: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ponsors put in however much money it takes to make the Project meet the Completion Test. If the test cannot be met, then there may be recourse to the Sponsors for the whole Project Financ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urnkey Contrac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urnkey construction contract may be formed in such a way as to provide the necessary financial support for the Completion aspect of Project Financing through healthy liquidated damages (“LDs”), Retentions, buy down payments, etc.  As a rule of thumb, turnkey construction contracts add 20% to cost.</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quity and Debt Subscrip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event of a cost overrun or a delay forcing capitalisation of interest, both the financiers and the company agree to contribute further funds, either pro-rata or in leap-frogging tranches, to meet the overrun with a ceiling on the bank’s exposure at some stag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ault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variation of Equity and Debt Subscription except for a “stand-still” period after all base financing has been provided, say 90 days, within which talks proceed between the financiers and the Sponsors to hopefully reach agreement on how to finance the increment to achieve project Completion.  The commitment of both sides to proceed may be halted early if estimates show that the project will come in above the financed budget.</a:t>
            </a:r>
            <a:endParaRPr b="0" lang="en-US" sz="1200" spc="-1" strike="noStrike">
              <a:solidFill>
                <a:srgbClr val="000000"/>
              </a:solidFill>
              <a:latin typeface="Arial"/>
            </a:endParaRPr>
          </a:p>
          <a:p>
            <a:pPr marL="4064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4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 Construction Assessment Matrix</a:t>
            </a:r>
            <a:endParaRPr b="1" lang="en-US" sz="2000" spc="-1" strike="noStrike">
              <a:solidFill>
                <a:srgbClr val="000000"/>
              </a:solidFill>
              <a:latin typeface="Arial"/>
            </a:endParaRPr>
          </a:p>
        </p:txBody>
      </p:sp>
      <p:pic>
        <p:nvPicPr>
          <p:cNvPr id="144" name="Picture 3" descr=""/>
          <p:cNvPicPr/>
          <p:nvPr/>
        </p:nvPicPr>
        <p:blipFill>
          <a:blip r:embed="rId1"/>
          <a:stretch/>
        </p:blipFill>
        <p:spPr>
          <a:xfrm>
            <a:off x="1295280" y="1143000"/>
            <a:ext cx="5257800" cy="51562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14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contracts cannot eliminate all risk to a project. Some residual level of risk generally remai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f-law ev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r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tion, the vendor and contractor cannot control such even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jects, especially heavily leveraged, high fixed cost ones, will seek to minimize these risks through insurance or sovereign guarantees and provisions to renegotiate tariff cost-offsetting provisions of power purchase agreements.</a:t>
            </a:r>
            <a:endParaRPr b="0"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of Bias in IE Report</a:t>
            </a:r>
            <a:endParaRPr b="1" lang="en-US" sz="2000" spc="-1" strike="noStrike">
              <a:solidFill>
                <a:srgbClr val="000000"/>
              </a:solidFill>
              <a:latin typeface="Arial"/>
            </a:endParaRPr>
          </a:p>
        </p:txBody>
      </p:sp>
      <p:sp>
        <p:nvSpPr>
          <p:cNvPr id="14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example, an IE report noted a mismatch between the physical requirements of an offtake agreement and the operating requirements of a key piece of project machiner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oncluded that the sponsor's operating practices would be sufficient to avoid significant problem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benign appearance of the issue, the project ultimately suffered years of poor operating and financial performance and issued a substantial amount of additional senior debt to finance the replacement of the affected equipment.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of Feasibility Study and Independent Engineer Report – Standard and Poor’s (Reference)</a:t>
            </a:r>
            <a:endParaRPr b="1" lang="en-US" sz="1800" spc="-1" strike="noStrike">
              <a:solidFill>
                <a:srgbClr val="000000"/>
              </a:solidFill>
              <a:latin typeface="Arial"/>
            </a:endParaRPr>
          </a:p>
        </p:txBody>
      </p:sp>
      <p:sp>
        <p:nvSpPr>
          <p:cNvPr id="1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s evaluation about the adequacy of contingencies for schedule and budget, and related assumptions.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erformance requirements and incentives for the construction contractors along with the financial and technical capacity of the contractors to perform on these contrac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wer technologies, evaluate whether the contractor has significant experience working with that technology and whether the contractor has worked in the host country.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having a legal structure that includes construction monitoring by an expert third party, such as an independent engineer, enhances construction surveillance by providing systematic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surveillance of work in progress with the independent engineer to establish the predictability of the remaining construction schedule.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Operation and Maintenance Risk</a:t>
            </a:r>
            <a:endParaRPr b="1" lang="en-US" sz="20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vity Risk</a:t>
            </a: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reat to a project may be the development and entry of new technologies that radically change the industry structure and the basis for competition and sustainability. While it has always been difficult to predict the next successful technology in any industry, the potential for new technologies to disrupt traditional industries may be greater in some sectors than other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development of wireless technology over the past 10 years has transformed the global telecommunications industry.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 Standard and Poor’s (Reference)</a:t>
            </a:r>
            <a:endParaRPr b="1" lang="en-US" sz="2000" spc="-1" strike="noStrike">
              <a:solidFill>
                <a:srgbClr val="000000"/>
              </a:solidFill>
              <a:latin typeface="Arial"/>
            </a:endParaRPr>
          </a:p>
        </p:txBody>
      </p:sp>
      <p:sp>
        <p:nvSpPr>
          <p:cNvPr id="15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s apply to labor and materials inputs, productivity, and operating expenses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 includes the effect of infl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ash flows will show 7-10 key items of costs with the remaining cost categories usually amounting to only 5-10% of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equate O&amp;M budget and major maintenance funding commensurate with the technology are mandatory. Standard &amp; Poor's expects that O&amp;M plans for new technologies or significantly scaled-up versions of proven technologies provide additional contingency for unexpected operating results. The budget estimates must be based on a detailed schedule of plant maintenance and planned overhaul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Methods of Risk Assessment</a:t>
            </a: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7696080" cy="5105520"/>
          </a:xfrm>
          <a:prstGeom prst="rect">
            <a:avLst/>
          </a:prstGeom>
          <a:solidFill>
            <a:srgbClr val="ffff66"/>
          </a:solidFill>
          <a:ln w="0">
            <a:noFill/>
          </a:ln>
        </p:spPr>
        <p:txBody>
          <a:bodyPr lIns="92160" rIns="92160" tIns="46080" bIns="46080" anchor="t">
            <a:normAutofit fontScale="97000"/>
          </a:bodyPr>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fulness</a:t>
            </a:r>
            <a:endParaRPr b="0" lang="en-US" sz="1800" spc="-1" strike="noStrike">
              <a:solidFill>
                <a:srgbClr val="000000"/>
              </a:solidFill>
              <a:latin typeface="Arial"/>
            </a:endParaRPr>
          </a:p>
        </p:txBody>
      </p:sp>
      <p:pic>
        <p:nvPicPr>
          <p:cNvPr id="103" name="Picture 81" descr=""/>
          <p:cNvPicPr/>
          <p:nvPr/>
        </p:nvPicPr>
        <p:blipFill>
          <a:blip r:embed="rId1"/>
          <a:stretch/>
        </p:blipFill>
        <p:spPr>
          <a:xfrm>
            <a:off x="380880" y="1295280"/>
            <a:ext cx="8358480" cy="3511800"/>
          </a:xfrm>
          <a:prstGeom prst="rect">
            <a:avLst/>
          </a:prstGeom>
          <a:ln w="0">
            <a:noFill/>
          </a:ln>
        </p:spPr>
      </p:pic>
      <p:sp>
        <p:nvSpPr>
          <p:cNvPr id="104" name="Line 82"/>
          <p:cNvSpPr/>
          <p:nvPr/>
        </p:nvSpPr>
        <p:spPr>
          <a:xfrm>
            <a:off x="2590920" y="5181480"/>
            <a:ext cx="54115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Line 83"/>
          <p:cNvSpPr/>
          <p:nvPr/>
        </p:nvSpPr>
        <p:spPr>
          <a:xfrm flipH="1">
            <a:off x="1294920" y="6019920"/>
            <a:ext cx="525780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tion and Cost Curves</a:t>
            </a: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 project in the lower half or lower third of the cost curve (sorted costs of other producers) is adequate.</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ject's competitive position relative to its peer group is a principal credit determinant. Given that most projects produce a commodity, such as electricity, ore, oil or gas, or some form of transport, low-cost production relative to the market is essential for an investment-grade rat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costs relative to an average market price, absent mitigating circumstances, will almost always place lenders at risk. To the extent that a project can "decommoditize" its product and obtain higher pricing, either through locational advantages, contractual agreements, or by differentiation in service and quality, it may achieve a higher rating, all else being equal.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Material Risk</a:t>
            </a:r>
            <a:endParaRPr b="1" lang="en-US" sz="2000" spc="-1" strike="noStrike">
              <a:solidFill>
                <a:srgbClr val="000000"/>
              </a:solidFill>
              <a:latin typeface="Arial"/>
            </a:endParaRPr>
          </a:p>
        </p:txBody>
      </p:sp>
      <p:sp>
        <p:nvSpPr>
          <p:cNvPr id="15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projects are, by definition, generally single site, limited product businesses, they are potentially at greater risk than a less restricted corporation.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take a single raw material and convert it to a single, higher value-added product; hence, the supplier may be critical to a buyer's busi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the input usually drives the project's competitive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a few firms dominate the supply of a critical factor of production relative to the number of potential customers, a project, absent mitigating factors, could be at higher risk because the supplier is in a better position to dictate terms of sal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that rely on fixed and dedicated transportation systems, such as pipelines or rail lines, to deliver necessary inputs, may have few substitutes availabl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projects mitigate supply risk through several strategie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nter into commodity supply contracts (indexed to the product price)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ransportation arrangements for the commodity should evidence a high level of dependability, with the transportation agreements again being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the best strategy uses a complete pass-through of supply costs to the purchaser. This strategy, however, places the buyer at risk of a price shock if the commodity's price should suddenly increase.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can either hedge supply risk, or transfer it to an entity with the means and willingness to assume the project's output price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dity supply markets in the U.S. and the U.K., are sufficiently liquid to support credible risk management strateg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K.-based sponsor may partially hedge its natural gas fuel supply price risk through fixed price-volume contracts or derivative produ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will demonstrate the ability and experience to engage in these complex risk management strategie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Remaining in Supply Contracts (S&amp;P)</a:t>
            </a: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 project may contractually receive fixed payments that cover its debt obligations, project input or supply arrangements, such as for fuel, ash disposal and water, may expose the project (and bondholders) at risk as regards those contracts' price and volume arrangement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uyer's obligation to pay a fixed price under the offtake contract is contingent on the project's availability and a disruption in fuel or other supply commodity occurs to make the project not available, if the disruption extends over a period of time with the result that the buyer is not contractually required to make fixed payments under the offtake agreement the project may not have sufficient revenues to pay debt service on the bonds.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risk to bondholders arises from the potential narrowing of the spread between supply prices and project product prices.   </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 Introduction</a:t>
            </a:r>
            <a:endParaRPr b="1" lang="en-US" sz="2000" spc="-1" strike="noStrike">
              <a:solidFill>
                <a:srgbClr val="000000"/>
              </a:solidFill>
              <a:latin typeface="Arial"/>
            </a:endParaRPr>
          </a:p>
        </p:txBody>
      </p:sp>
      <p:sp>
        <p:nvSpPr>
          <p:cNvPr id="16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are long-term and immobi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investments require sustained political suppor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want to become a political football</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viability is analogous to commercial viabil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beneficial to a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ate of return can increase risk</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olitical Risk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convertibi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of the project by the stat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violence</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and Country Risk</a:t>
            </a:r>
            <a:endParaRPr b="1" lang="en-US" sz="2000" spc="-1" strike="noStrike">
              <a:solidFill>
                <a:srgbClr val="000000"/>
              </a:solidFill>
              <a:latin typeface="Arial"/>
            </a:endParaRPr>
          </a:p>
        </p:txBody>
      </p:sp>
      <p:sp>
        <p:nvSpPr>
          <p:cNvPr id="16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and political regime in which a project operates can have profound effects on its ability to repay investor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environmental, labor, insolvency and secured lending laws (or lack thereof).</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enforceabilit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risk, primarily as currency transfer and convertibility risk, is also an issue because non-recourse projects have no call on their sponsors' balance sheets if host-country exchange control laws subsequently affect project cash flows across national boundaries.</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s in developing countries often fail to provide the rights and remedies that a project or its creditors typically require for the enforcement of their interes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s</a:t>
            </a:r>
            <a:endParaRPr b="1" lang="en-US" sz="2000" spc="-1" strike="noStrike">
              <a:solidFill>
                <a:srgbClr val="000000"/>
              </a:solidFill>
              <a:latin typeface="Arial"/>
            </a:endParaRPr>
          </a:p>
        </p:txBody>
      </p:sp>
      <p:sp>
        <p:nvSpPr>
          <p:cNvPr id="17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political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w because of new legislation.  These may be passed on to the off-taker in the PPA or concession contract</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si political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disput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line between commercial and political risk is blurred</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wit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 insur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insurance</a:t>
            </a:r>
            <a:endParaRPr b="0" lang="en-US" sz="1800" spc="-1" strike="noStrike">
              <a:solidFill>
                <a:srgbClr val="000000"/>
              </a:solidFill>
              <a:latin typeface="Arial"/>
            </a:endParaRPr>
          </a:p>
          <a:p>
            <a:pPr lvl="1" marL="635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Convertibility</a:t>
            </a:r>
            <a:endParaRPr b="1" lang="en-US" sz="2000" spc="-1" strike="noStrike">
              <a:solidFill>
                <a:srgbClr val="000000"/>
              </a:solidFill>
              <a:latin typeface="Arial"/>
            </a:endParaRPr>
          </a:p>
        </p:txBody>
      </p:sp>
      <p:sp>
        <p:nvSpPr>
          <p:cNvPr id="17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do not raise financing in the currency of the project (e.g. cannot raise Caribbean dollars from local banks).  Then must convert revenues collected from the project 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untry runs into difficulties (such as Zimbabwe) , then cannot convert the currency and remove from the country.  Here the local currency is forbidden to be converted in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macroeconomic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nclave projects with off-shore accounts to collect revenues from commodity. (Problem that may cause other actions from host country).</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Law</a:t>
            </a:r>
            <a:endParaRPr b="1" lang="en-US" sz="2000" spc="-1" strike="noStrike">
              <a:solidFill>
                <a:srgbClr val="000000"/>
              </a:solidFill>
              <a:latin typeface="Arial"/>
            </a:endParaRPr>
          </a:p>
        </p:txBody>
      </p:sp>
      <p:sp>
        <p:nvSpPr>
          <p:cNvPr id="17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inciple that party most able to affect the risk should take the risk means that government off-taker should take the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struction period, the EPC passes to project company who in turn passes on to PPA or Concession contra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change in tax rates – argument that is general risk of doing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changing tariff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hang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a:t>
            </a:r>
            <a:endParaRPr b="1" lang="en-US" sz="20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ercing the Sovereign Veil</a:t>
            </a:r>
            <a:endParaRPr b="1" lang="en-US" sz="2000" spc="-1" strike="noStrike">
              <a:solidFill>
                <a:srgbClr val="000000"/>
              </a:solidFill>
              <a:latin typeface="Arial"/>
            </a:endParaRPr>
          </a:p>
        </p:txBody>
      </p:sp>
      <p:sp>
        <p:nvSpPr>
          <p:cNvPr id="17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Sovereign Risk</a:t>
            </a:r>
            <a:endParaRPr b="1" lang="en-US" sz="2000" spc="-1" strike="noStrike">
              <a:solidFill>
                <a:srgbClr val="000000"/>
              </a:solidFill>
              <a:latin typeface="Arial"/>
            </a:endParaRPr>
          </a:p>
        </p:txBody>
      </p:sp>
      <p:sp>
        <p:nvSpPr>
          <p:cNvPr id="17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general rule, project ratings are constrained by the foreign currency rating of the country in which the project is located.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vereign foreign currency rating indicates the sovereign government's willingness and ability to service its foreign currency denominated debt on time and in full.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foreign currency rating acts as a constraint, because the project's ability to acquire the hard currency needed to service its foreign currency debt may be affected by acts or policies of the sovereign. For example, in times of economic or political stress, or both, the sovereign may intervene in the settlement process by impeding commercial conversion or transfer mechanisms, or by implementing exchange controls. 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Rate Risk</a:t>
            </a:r>
            <a:endParaRPr b="1" lang="en-US" sz="2000" spc="-1" strike="noStrike">
              <a:solidFill>
                <a:srgbClr val="000000"/>
              </a:solidFill>
              <a:latin typeface="Arial"/>
            </a:endParaRPr>
          </a:p>
        </p:txBody>
      </p:sp>
      <p:sp>
        <p:nvSpPr>
          <p:cNvPr id="18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experiences in the power sector in emerging markets have dramatically illustrated how foreign exchange devaluations can undermine a project's competitive position. Many cross-border projects, particularly infrastructure projects, have revenues denominated in local currencies but have debt obligations in a different currency. The mismatch creates two potential risks. </a:t>
            </a:r>
            <a:endParaRPr b="0" lang="en-US" sz="20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urrency exposure is un-hedged, a project could likely experience a cash shortfall sufficient to cause a default if a sudden and severe devaluation occurs. </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risk occurs when project revenues are contractually indexed so as to pass on the exchange rate risk to off-takers. In this second instance, lenders run the risk that a massive devaluation will make the project's off-take so expensive in the local currency that off-takers cannot afford to purchase the output. Hence, the risk of contract abrogation may soar.   </a:t>
            </a:r>
            <a:endParaRPr b="0" lang="en-US" sz="1600" spc="-1" strike="noStrike">
              <a:solidFill>
                <a:srgbClr val="000000"/>
              </a:solidFill>
              <a:latin typeface="Arial"/>
            </a:endParaRPr>
          </a:p>
          <a:p>
            <a:pPr marL="406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ng Foreign Exchange Rate Risk</a:t>
            </a:r>
            <a:endParaRPr b="1" lang="en-US" sz="1800" spc="-1" strike="noStrike">
              <a:solidFill>
                <a:srgbClr val="000000"/>
              </a:solidFill>
              <a:latin typeface="Arial"/>
            </a:endParaRPr>
          </a:p>
        </p:txBody>
      </p:sp>
      <p:sp>
        <p:nvSpPr>
          <p:cNvPr id="18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mitations of indexing, however, can do little to offset the threat posed by sudden and severe depreciation.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will look to severe scenarios to test a project's robustness in speculative-grade sovereigns or in any other sovereign where the exchange rate regime may be unsustainable.  The question is how much devaluation be assumed in the scenarios.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Foreign Exchange Derivatives to Hedge Exposure</a:t>
            </a:r>
            <a:endParaRPr b="1" lang="en-US" sz="1800" spc="-1" strike="noStrike">
              <a:solidFill>
                <a:srgbClr val="000000"/>
              </a:solidFill>
              <a:latin typeface="Arial"/>
            </a:endParaRPr>
          </a:p>
        </p:txBody>
      </p:sp>
      <p:sp>
        <p:nvSpPr>
          <p:cNvPr id="18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strategies such as currency swaps and forward sales, while useful in theory, tend to have limited credit value.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actical matter, the maturity and availability of such instruments, particularly in emerging markets, fall short of the needs of long-term debt. Non-amortizing debt are particularly risky in emerging markets, because a sudden crisis could prevent a refinancing regardless of the pric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olitical Risk – Robbins Incinerator in US</a:t>
            </a: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subsidized waste to energ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idy was in the form of a zero interest loa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issues at state caused the law to be over-turned</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Robbins prospectu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cost $438 million and is now in bankruptc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cumulated tax credits received by ComEd due to compensation for the additional payments caused by the difference in Rider 3 and Rider 4 rates must ultimately be reimbursed to the Illinois General Fund by the Project. Such reimbursement must commence no later than the 21st' year following the commencement of Commercial Operations of the Project, and the total reimbursement payments must equal the sum of all tax credits accumulated by ComEd from the operation of the Project. The total reimbursement period must be such that all accumulated tax credits are fully reimbursed to the Illinois General Fund by the end of the actual useful life of the Project.</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Support</a:t>
            </a:r>
            <a:endParaRPr b="1" lang="en-US" sz="2000" spc="-1" strike="noStrike">
              <a:solidFill>
                <a:srgbClr val="000000"/>
              </a:solidFill>
              <a:latin typeface="Arial"/>
            </a:endParaRPr>
          </a:p>
        </p:txBody>
      </p:sp>
      <p:sp>
        <p:nvSpPr>
          <p:cNvPr id="18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of Political risk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r insurance for politica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f insurance for al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guarantees, insurance and direct loa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 Agenc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Financing Institutio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Insuranc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Political Risk</a:t>
            </a: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litical risks may be covered by government-Sponsored export credit agencies (ECA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risks can be absorbed through insurance from groups such as Lloyds of London or private insurance source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Financing parallels an MLA or ECA financing, then some (but not complete) comfort may be derived from the potential leverage from these government agenci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s can provide very effective insurance against currency inconvertibility, creeping expropriation, and unfair calling of performance bond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delay of six months is built in to the PRI defined events to ensure that the government action is not a temporary squeeze</a:t>
            </a:r>
            <a:endParaRPr b="0"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a:t>
            </a: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19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ower Par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 Models</a:t>
            </a:r>
            <a:endParaRPr b="1" lang="en-US" sz="2000" spc="-1" strike="noStrike">
              <a:solidFill>
                <a:srgbClr val="000000"/>
              </a:solidFill>
              <a:latin typeface="Arial"/>
            </a:endParaRPr>
          </a:p>
        </p:txBody>
      </p:sp>
      <p:sp>
        <p:nvSpPr>
          <p:cNvPr id="10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analysis to a large degree involves identifying, allocating and mitigating risk.  One must therefore be able first to identify risks and then to measure how effective the contracts and other mitigating factors (covenant, debt service reserve, liquidated damage) are in managing risk.</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Finance Adag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experience</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experience</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Risks – Environmental, Legal, Infrastructure</a:t>
            </a:r>
            <a:endParaRPr b="1"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 Risks</a:t>
            </a:r>
            <a:endParaRPr b="1" lang="en-US" sz="2000" spc="-1" strike="noStrike">
              <a:solidFill>
                <a:srgbClr val="000000"/>
              </a:solidFill>
              <a:latin typeface="Arial"/>
            </a:endParaRPr>
          </a:p>
        </p:txBody>
      </p:sp>
      <p:sp>
        <p:nvSpPr>
          <p:cNvPr id="19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creases in interest costs because of interest rate changes.  Funding generally with variable rate deb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Sw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C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Interest Rates</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Risk</a:t>
            </a:r>
            <a:endParaRPr b="1" lang="en-US" sz="2000" spc="-1" strike="noStrike">
              <a:solidFill>
                <a:srgbClr val="000000"/>
              </a:solidFill>
              <a:latin typeface="Arial"/>
            </a:endParaRPr>
          </a:p>
        </p:txBody>
      </p:sp>
      <p:sp>
        <p:nvSpPr>
          <p:cNvPr id="19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sk category can also arise due to location of the project e.g. near towns or highway or in proximity to wilderness, heritage, native reserve, or scenic area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firms are now specializing in assessing projects for environmental event, disaster, and clean-up policies.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Risk</a:t>
            </a:r>
            <a:endParaRPr b="1" lang="en-US" sz="2000" spc="-1" strike="noStrike">
              <a:solidFill>
                <a:srgbClr val="000000"/>
              </a:solidFill>
              <a:latin typeface="Arial"/>
            </a:endParaRPr>
          </a:p>
        </p:txBody>
      </p:sp>
      <p:sp>
        <p:nvSpPr>
          <p:cNvPr id="20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lated to Costs of Delivering Equip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sts required to deliver the equipment can sometimes equal or exceed the Project’s operating and capital cost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capacity may be the limiting factor in remote proje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nd power in Caribbea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Independent Cert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governments may commit to develop the requisite roads and ports.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Residual Risk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Management</a:t>
            </a:r>
            <a:endParaRPr b="1" lang="en-US" sz="2000" spc="-1" strike="noStrike">
              <a:solidFill>
                <a:srgbClr val="000000"/>
              </a:solidFill>
              <a:latin typeface="Arial"/>
            </a:endParaRPr>
          </a:p>
        </p:txBody>
      </p:sp>
      <p:sp>
        <p:nvSpPr>
          <p:cNvPr id="2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ck Sud</a:t>
            </a:r>
            <a:endParaRPr b="0" lang="en-US" sz="20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merchant plant in Argentina</a:t>
            </a:r>
            <a:endParaRPr b="0" lang="en-US" sz="18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gas supply contract that varies when electricity prices chang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target level for electricity price and natural gas pric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lectricity price is a certain amount below target, reduce the natural gas price using a formula.</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Revenue Risks</a:t>
            </a:r>
            <a:endParaRPr b="1" lang="en-US" sz="2000" spc="-1" strike="noStrike">
              <a:solidFill>
                <a:srgbClr val="000000"/>
              </a:solidFill>
              <a:latin typeface="Arial"/>
            </a:endParaRPr>
          </a:p>
        </p:txBody>
      </p:sp>
      <p:sp>
        <p:nvSpPr>
          <p:cNvPr id="20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PA Contracts and Concession Agreements</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 Commodity Price Exposur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price and quantity exposure</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05120" y="2895480"/>
            <a:ext cx="5933880" cy="301464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SWAPS</a:t>
            </a:r>
            <a:r>
              <a:rPr b="0" lang="en-GB" sz="1400" spc="-1" strike="noStrike">
                <a:solidFill>
                  <a:srgbClr val="000000"/>
                </a:solidFill>
                <a:latin typeface="Akzidenz Grotesk Light"/>
              </a:rPr>
              <a:t>.  CSFB will make fixed cash payments, either in a lump sum now or at various dates in the future.  Later, the producer makes payments that reflect the average of prevailing spot WTI or Brent prices in the future.  (It is also possible for the producer to deliver physical barrels of oil, instead of cash.)</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PUT OPTIONS</a:t>
            </a:r>
            <a:r>
              <a:rPr b="0" lang="en-GB" sz="1400" spc="-1" strike="noStrike">
                <a:solidFill>
                  <a:srgbClr val="000000"/>
                </a:solidFill>
                <a:latin typeface="Akzidenz Grotesk Light"/>
              </a:rPr>
              <a:t>.  The producer obtains protection now against low spot prices in the future.  The purchaser can pay for the protection in a lump sum today, or in a series of futures payments. </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TRIGGER PUTS</a:t>
            </a:r>
            <a:r>
              <a:rPr b="0" lang="en-GB" sz="1400" spc="-1" strike="noStrike">
                <a:solidFill>
                  <a:srgbClr val="000000"/>
                </a:solidFill>
                <a:latin typeface="Akzidenz Grotesk Light"/>
              </a:rPr>
              <a:t>.  The producer pays for protection only when he needs it.  There is no need to pay premium today.  Rather, a premium becomes due in the future if and only if the market tumbles even further below the protection level.</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CONVERTIBLE PUTS</a:t>
            </a:r>
            <a:r>
              <a:rPr b="0" lang="en-GB" sz="1400" spc="-1" strike="noStrike">
                <a:solidFill>
                  <a:srgbClr val="000000"/>
                </a:solidFill>
                <a:latin typeface="Akzidenz Grotesk Light"/>
              </a:rPr>
              <a:t>.  The producer receives protection against low spot prices in the future, with no payment of cash today.  The producer agrees now to enter into a swap if and when the market rebound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INTEREST RATE SWAPS AND CAPS.</a:t>
            </a:r>
            <a:r>
              <a:rPr b="0" lang="en-GB" sz="1400" spc="-1" strike="noStrike">
                <a:solidFill>
                  <a:srgbClr val="000000"/>
                </a:solidFill>
                <a:latin typeface="Akzidenz Grotesk Light"/>
              </a:rPr>
              <a:t>  The project can protect itself against rises in interest rates above the originally predicted level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URRENCY SWAPS / FORWARDS / OPTIONS</a:t>
            </a:r>
            <a:r>
              <a:rPr b="0" lang="en-GB" sz="1400" spc="-1" strike="noStrike">
                <a:solidFill>
                  <a:srgbClr val="000000"/>
                </a:solidFill>
                <a:latin typeface="Akzidenz Grotesk Light"/>
              </a:rPr>
              <a:t>.  If the project is funded in one currency but the revenues are expected in a separate currency, currency hedges allow the project to close the mismatch.  These products are useful in both developed and emerging markets.</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Hedging and Project Finance </a:t>
            </a:r>
            <a:endParaRPr b="1"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Risk Management (Reference)</a:t>
            </a:r>
            <a:endParaRPr b="1" lang="en-US" sz="2000" spc="-1" strike="noStrike">
              <a:solidFill>
                <a:srgbClr val="000000"/>
              </a:solidFill>
              <a:latin typeface="Arial"/>
            </a:endParaRPr>
          </a:p>
        </p:txBody>
      </p:sp>
      <p:sp>
        <p:nvSpPr>
          <p:cNvPr id="21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ce of risk management lies in maximizing the areas where we have some control over the outcome and minimizing the areas where we have absolutely no control over the outcome.</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rs must be thoroughly familiar with a variety of financial markets, with the intricacies of the trading process, and with financial and statistical modeling.</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ment integrates fixed-income markets, currency markets, equity and commodity markets.  In each of these, financial instruments must be decomposed into fundamental building blocks, then reassembled for risk measurement purpose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e Jorion, “Value at Risk”</a:t>
            </a:r>
            <a:endParaRPr b="0"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Technological Risk – Liquidated Damages and Guarantees</a:t>
            </a:r>
            <a:endParaRPr b="1" lang="en-US" sz="2000" spc="-1" strike="noStrike">
              <a:solidFill>
                <a:srgbClr val="000000"/>
              </a:solidFill>
              <a:latin typeface="Arial"/>
            </a:endParaRPr>
          </a:p>
        </p:txBody>
      </p:sp>
      <p:sp>
        <p:nvSpPr>
          <p:cNvPr id="21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Guarante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Sponsor itself or the technology developer will guarantee that the technology will work for a given perio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six months to two years after startup.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elve months is common in the power generation sector.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uarantee is not met, financial penalties could apply (although these are rarely sufficient to fully repay the loa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Technology Guarantees: Many Technology companies are weak financially and may have little substance to back such a guarantee.</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isk Analysis Process in Project Finance</a:t>
            </a:r>
            <a:endParaRPr b="1" lang="en-US" sz="2000" spc="-1" strike="noStrike">
              <a:solidFill>
                <a:srgbClr val="000000"/>
              </a:solidFill>
              <a:latin typeface="Arial"/>
            </a:endParaRPr>
          </a:p>
        </p:txBody>
      </p:sp>
      <p:sp>
        <p:nvSpPr>
          <p:cNvPr id="11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nalysis Process Invol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identify risks and classify them into various categor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determine which risks are mitigated through contrac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whether the counterparties will live up to contract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isks which are not mitigated through contracts or hedg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potential variation through judgment and/or mathematical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whether the debt can support the remaining risks through evaluation of the DSCR in downside and break-even case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isk Management Continued</a:t>
            </a:r>
            <a:endParaRPr b="1" lang="en-US" sz="1800" spc="-1" strike="noStrike">
              <a:solidFill>
                <a:srgbClr val="000000"/>
              </a:solidFill>
              <a:latin typeface="Arial"/>
            </a:endParaRPr>
          </a:p>
        </p:txBody>
      </p:sp>
      <p:sp>
        <p:nvSpPr>
          <p:cNvPr id="2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 may be raised from unconventional or conventional insurance markets.  This can be expected to be difficult for brand-new technologie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technology licenser may guarantee the resultant product’s specification which, to a large part, can cover the Technical component of Operating Risk.  This is often seen in the industrial chemicals industry.</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et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lessor may guarantee to replace individual items found faulty from a fleet in the neighbourhood.  This may be a little difficult for a dragline, in say, Thailand, although it may be easy for a toll-booth machine installed there.  Duplicate facilities and standby/backups are varieties of this approach.</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 Management</a:t>
            </a:r>
            <a:endParaRPr b="1" lang="en-US" sz="2000" spc="-1" strike="noStrike">
              <a:solidFill>
                <a:srgbClr val="000000"/>
              </a:solidFill>
              <a:latin typeface="Arial"/>
            </a:endParaRPr>
          </a:p>
        </p:txBody>
      </p:sp>
      <p:sp>
        <p:nvSpPr>
          <p:cNvPr id="21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ourc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chnology does not work out, then the technology company undertakes to provide equipment from elsewhere (if the supplier) or arrange to use the technology elsewhere (if the plant) with no impact on cash-flows.  This is rarely see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nterruption Insur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kes effect upon project startup and can provide useful protection of the Assets or the Project Financing in the event of lost income arising from an accident.  If a total loss, the banks will often want to be the loss payee under this type of insurance policy as well as the all-risks general insurance policy.  This is indirect cover for the Technical Component of Operating Risk.</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nd Poor’s on Assumptions</a:t>
            </a:r>
            <a:endParaRPr b="1" lang="en-US" sz="2000" spc="-1" strike="noStrike">
              <a:solidFill>
                <a:srgbClr val="000000"/>
              </a:solidFill>
              <a:latin typeface="Arial"/>
            </a:endParaRPr>
          </a:p>
        </p:txBody>
      </p:sp>
      <p:sp>
        <p:nvSpPr>
          <p:cNvPr id="2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alytical task is to identify the project's </a:t>
            </a:r>
            <a:r>
              <a:rPr b="1" i="1" lang="en-US" sz="2000" spc="-1" strike="noStrike" u="sng">
                <a:solidFill>
                  <a:srgbClr val="000000"/>
                </a:solidFill>
                <a:uFillTx/>
                <a:latin typeface="Arial"/>
              </a:rPr>
              <a:t>key drivers of success</a:t>
            </a:r>
            <a:r>
              <a:rPr b="0" lang="en-US" sz="2000" spc="-1" strike="noStrike">
                <a:solidFill>
                  <a:srgbClr val="000000"/>
                </a:solidFill>
                <a:latin typeface="Arial"/>
              </a:rPr>
              <a:t> that could adversely affect cash flow for debt service if the original project assumptions prove wrong.  </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projections of project finance power projects are probably </a:t>
            </a:r>
            <a:r>
              <a:rPr b="0" i="1" lang="en-US" sz="2000" spc="-1" strike="noStrike" u="sng">
                <a:solidFill>
                  <a:srgbClr val="000000"/>
                </a:solidFill>
                <a:uFillTx/>
                <a:latin typeface="Arial"/>
              </a:rPr>
              <a:t>inherently skewed toward successful results...hiding the true technical and operating risks inherent in many projects</a:t>
            </a: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9052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mp; Poor’s on Assumptions</a:t>
            </a: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 three potential problems with assumptions include:</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predictions about the key drivers, made explicitly or implicitly, rely on overly optimistic plans and scenarios of succes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redictions made symmetrically, in that the downside performance is considered as well as the upsi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forecasts neglected the statistics of the past, which, among other things, could indicate a different scenario than the one based only upon current trends or conditions?</a:t>
            </a:r>
            <a:endParaRPr b="0" lang="en-US" sz="1800" spc="-1" strike="noStrike">
              <a:solidFill>
                <a:srgbClr val="000000"/>
              </a:solidFill>
              <a:latin typeface="Arial"/>
            </a:endParaRPr>
          </a:p>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 Methods with Project Finance Models</a:t>
            </a:r>
            <a:endParaRPr b="1" lang="en-US" sz="2000" spc="-1" strike="noStrike">
              <a:solidFill>
                <a:srgbClr val="000000"/>
              </a:solidFill>
              <a:latin typeface="Arial"/>
            </a:endParaRPr>
          </a:p>
        </p:txBody>
      </p:sp>
      <p:sp>
        <p:nvSpPr>
          <p:cNvPr id="22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Risk Assess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judgmental assessmen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 test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nalysi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athematical analysi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isk Analysis Techniques with Project Finance Models</a:t>
            </a: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itional methods of using a project finance model with expert judgement to assess the risk include break-even analysis, scenario analysis and sensitivity analysi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nsitivity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valuates how the credit quality and value is affected by changing single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enario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asures the ability to service debt and generate cash flow under a comprehensive set of assumptions for market prices, fuel costs, plant availability and other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eak-even analysis </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sts how much worse a variable can become before a default or non-payment of debt occurs.  Break-even analysis can be applied to the minimum debt service coverage ratio or the amount of debt outstanding at the end of the life of a project. </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tivity Analysis and Scenario Analysis (Reference)</a:t>
            </a:r>
            <a:endParaRPr b="1" lang="en-US" sz="1800" spc="-1" strike="noStrike">
              <a:solidFill>
                <a:srgbClr val="000000"/>
              </a:solidFill>
              <a:latin typeface="Arial"/>
            </a:endParaRPr>
          </a:p>
        </p:txBody>
      </p:sp>
      <p:sp>
        <p:nvSpPr>
          <p:cNvPr id="227" name="PlaceHolder 2"/>
          <p:cNvSpPr>
            <a:spLocks noGrp="1"/>
          </p:cNvSpPr>
          <p:nvPr>
            <p:ph/>
          </p:nvPr>
        </p:nvSpPr>
        <p:spPr>
          <a:xfrm>
            <a:off x="762120" y="1371240"/>
            <a:ext cx="3735360" cy="48769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itivity Analysi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sensitivities to potential changes in fuel prices, project availability, mechanical efficiency, inflation, and O&amp;M costs usually sufficed to measure financial risk.  Too simplistic and thus, may not capture a project's financial risk. Because sensitivity analysis only tests a projects' response to one variable, it ignores the multidimensional reality of business and, therefore, may ignore the full range of uncertainty. Still worse, sensitivity analysis may elevate pinhole risks, and their usual attendant dire consequences, to levels that needlessly dominate the credit analysis. </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533480" y="1295280"/>
            <a:ext cx="3924360" cy="51055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enario Analysis</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 collectively considers a number of variables and their potential values that a project could face through its debt maturity. A good collection of project scenarios, when placed into the project's financial model, will explore the various, and sometimes complex, linkages and correlations among variables, such as interest rates, inflation, foreign exchange, product price, or cost of production in some industries. Assess the long-term drivers of profitability in the project's industry, as well as the specific project, and identify the critical uncertainties. Develop several scenarios based on those uncertainties, asses their relative likelihood of occurrence, and then determine how robust or weak the project is under varying economic and market conditions.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sp>
        <p:nvSpPr>
          <p:cNvPr id="2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scenarios test the pro forma results' sensitivity to changes in key assumptions and operational parameters that explore how a project will fare under different views of the marke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echnical parameters and performance, such as efficiency, availability, output, etc.;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pplies, and other operating expense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side market price and demand scenario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rates, including de-inflation if appropriat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exposure for projects with floating rat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exchange movemen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new technologies; and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ebt levels, as allowed by project documentation. </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3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tc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bject is to determine if the project is likely to continue to cover operating expenses and debt interest and principal payments despite unexpected stress levels. The scenarios also reveal whether there are particular variables to which the project has a greater degree of sensitivity. The evaluation of the stress scenario results is focused on the </a:t>
            </a:r>
            <a:r>
              <a:rPr b="1" i="1" lang="en-AU" sz="1800" spc="-1" strike="noStrike">
                <a:solidFill>
                  <a:srgbClr val="000000"/>
                </a:solidFill>
                <a:latin typeface="Arial"/>
              </a:rPr>
              <a:t>minimum debt service coverage</a:t>
            </a:r>
            <a:r>
              <a:rPr b="0" lang="en-AU" sz="1800" spc="-1" strike="noStrike">
                <a:solidFill>
                  <a:srgbClr val="000000"/>
                </a:solidFill>
                <a:latin typeface="Arial"/>
              </a:rPr>
              <a:t> in any single year and the average debt service coverage over the entire life of the debt. If the cash flows are unable to cover payments on project debt under certain stress scenarios, the debt service reserve or other forms of credit enhancement available to the project are applied. Thus, [sensitivity analysis] can be used to size the appropriate debt service reserve or other credit enhancements needed to avoid default under adverse scenarios.  Fitch performs sensitivity analyses that stress cash flows down to a break-even level to see how the project performs under extreme hardship conditions and at what minimum power price the project can perform while covering operating costs and debt service payments.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 </a:t>
            </a:r>
            <a:endParaRPr b="1" lang="en-US" sz="2000" spc="-1" strike="noStrike">
              <a:solidFill>
                <a:srgbClr val="000000"/>
              </a:solidFill>
              <a:latin typeface="Arial"/>
            </a:endParaRPr>
          </a:p>
        </p:txBody>
      </p:sp>
      <p:sp>
        <p:nvSpPr>
          <p:cNvPr id="2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ody’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the appropriate analytical beginning is to determine a credible market forecast and to assess the projects break-even position relative to that market forecast.  A break-even point substantially below the market forecast allows a project to absorb unexpected market fluctuations in prices and volumes which is essential to an investment grade debt security. From this analysis, one can derive the appropriate capital structure for each project individually.</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a merchant plant will be subject to swings in prices as power markets develop.  The better able a project is to absorb changes in prices (and changes in volumes) the higher its rating will be.  Our belief is that an investment-grade-rated merchant power plant will have a break-even point, where it fully covers its debt service obligations, between 30% and 50% below </a:t>
            </a:r>
            <a:r>
              <a:rPr b="1" i="1" lang="en-AU" sz="1800" spc="-1" strike="noStrike">
                <a:solidFill>
                  <a:srgbClr val="000000"/>
                </a:solidFill>
                <a:latin typeface="Arial"/>
              </a:rPr>
              <a:t>a reasonable market forecast price</a:t>
            </a:r>
            <a:r>
              <a:rPr b="0" lang="en-AU" sz="1800" spc="-1" strike="noStrike">
                <a:solidFill>
                  <a:srgbClr val="000000"/>
                </a:solidFill>
                <a:latin typeface="Arial"/>
              </a:rPr>
              <a:t>. The amount of the discount is determined by the characteristics of the market and the reasonableness of the market forecast assumptions.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Allocation Table</a:t>
            </a:r>
            <a:endParaRPr b="1" lang="en-US" sz="2000" spc="-1" strike="noStrike">
              <a:solidFill>
                <a:srgbClr val="000000"/>
              </a:solidFill>
              <a:latin typeface="Arial"/>
            </a:endParaRPr>
          </a:p>
        </p:txBody>
      </p:sp>
      <p:pic>
        <p:nvPicPr>
          <p:cNvPr id="112" name="Picture 4" descr=""/>
          <p:cNvPicPr/>
          <p:nvPr/>
        </p:nvPicPr>
        <p:blipFill>
          <a:blip r:embed="rId1"/>
          <a:stretch/>
        </p:blipFill>
        <p:spPr>
          <a:xfrm>
            <a:off x="228600" y="1447920"/>
            <a:ext cx="8610480" cy="461808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ndard &amp; Po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projects elect to obtain key supply inputs from spot markets, the risk of cash flow erosion may raise project credit concerns, particularly in volatile markets, such as energy and other commodities.  Stronger projects will be those that can </a:t>
            </a:r>
            <a:r>
              <a:rPr b="1" i="1" lang="en-AU" sz="2000" spc="-1" strike="noStrike">
                <a:solidFill>
                  <a:srgbClr val="000000"/>
                </a:solidFill>
                <a:latin typeface="Arial"/>
              </a:rPr>
              <a:t>demonstrate a resilience to worst case cost movement scenarios as indicated by historical trends</a:t>
            </a:r>
            <a:r>
              <a:rPr b="0" lang="en-AU" sz="2000" spc="-1" strike="noStrike">
                <a:solidFill>
                  <a:srgbClr val="000000"/>
                </a:solidFill>
                <a:latin typeface="Arial"/>
              </a:rPr>
              <a:t>.  Historical price trends in such commodities as crude oil, petrochemical products, metals and pulp and paper can provide a basis for analysis of potential worst case price movements.  Standard &amp; Poor's will rely in part on financial scenario analysis to assess the effects of supply and cost disruptions on project economics. </a:t>
            </a:r>
            <a:endParaRPr b="0"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Analysi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96080" cy="311148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eak-even analysis can demonstrate how bilateral contracts affect risks. The graphs illustrate application of the break-even electricity price for three different bilateral contract cases. In one case, no bilateral contract is assumed; in a second case, a bilateral contract that covers half of the plant output for six years is assumed; and, in a third case a ten year bilateral contract that covers the entire output of the plant is assumed. Data in the graph show the percent reduction in the spot market price on non-contracted electricity generation while assuring that various sized loans can just be paid from cash flow of the project by the end of its lifetime assuming various different levels of debt leverage.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MS PGothic"/>
              </a:rPr>
              <a:t> </a:t>
            </a:r>
            <a:r>
              <a:rPr b="0" lang="en-AU" sz="1600" spc="-1" strike="noStrike">
                <a:solidFill>
                  <a:srgbClr val="000000"/>
                </a:solidFill>
                <a:latin typeface="Arial"/>
                <a:ea typeface="MS PGothic"/>
              </a:rPr>
              <a:t>The graph show how contracts equate to a higher level of leverage. For a certain acceptable break-even price, the risks can be mitigated either through a contract or through lower levels of leverage. </a:t>
            </a:r>
            <a:endParaRPr b="0" lang="en-US" sz="1600" spc="-1" strike="noStrike">
              <a:solidFill>
                <a:srgbClr val="000000"/>
              </a:solidFill>
              <a:latin typeface="Arial"/>
            </a:endParaRPr>
          </a:p>
        </p:txBody>
      </p:sp>
      <p:pic>
        <p:nvPicPr>
          <p:cNvPr id="239" name="Picture 4" descr=""/>
          <p:cNvPicPr/>
          <p:nvPr/>
        </p:nvPicPr>
        <p:blipFill>
          <a:blip r:embed="rId1"/>
          <a:stretch/>
        </p:blipFill>
        <p:spPr>
          <a:xfrm>
            <a:off x="2971800" y="4267080"/>
            <a:ext cx="3193920" cy="196056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rnado Diagrams and Sensitivity Analysis</a:t>
            </a: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graph begins with a base case and measures how much prices move up or down from the base case because of the assumption change.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diagram demonstrates which aspects of risk are most important to IRR or DSCR.</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tornado diagram is complete for a case without contractual enhancements, the risk analysis can be re-done with contracts to evaluate how the enhancements affect ris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IR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cost risk moves down by 2% or up by 3%</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risk moves IRR up from base case by 4% or down by 5%</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DSC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mp;M risk moves DSCR from 1.4 down to 1.2 or up to 1.5</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 moves DSCR down from 1.4 to 1.3 or up to 1.6 </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rnado Diagram</a:t>
            </a:r>
            <a:endParaRPr b="1" lang="en-US" sz="2000" spc="-1" strike="noStrike">
              <a:solidFill>
                <a:srgbClr val="000000"/>
              </a:solidFill>
              <a:latin typeface="Arial"/>
            </a:endParaRPr>
          </a:p>
        </p:txBody>
      </p:sp>
      <p:sp>
        <p:nvSpPr>
          <p:cNvPr id="2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agram illustrates how risks can be assessed with a model.  The remaining lectures and case studies will involve assessing how the risks can be reduced or allocated through contract terms.</a:t>
            </a:r>
            <a:endParaRPr b="0" lang="en-US" sz="2000" spc="-1" strike="noStrike">
              <a:solidFill>
                <a:srgbClr val="000000"/>
              </a:solidFill>
              <a:latin typeface="Arial"/>
            </a:endParaRPr>
          </a:p>
        </p:txBody>
      </p:sp>
      <p:pic>
        <p:nvPicPr>
          <p:cNvPr id="244" name="Picture 4" descr=""/>
          <p:cNvPicPr/>
          <p:nvPr/>
        </p:nvPicPr>
        <p:blipFill>
          <a:blip r:embed="rId1"/>
          <a:stretch/>
        </p:blipFill>
        <p:spPr>
          <a:xfrm>
            <a:off x="2057400" y="2765520"/>
            <a:ext cx="5791320" cy="3406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Volatility Analysis</a:t>
            </a:r>
            <a:endParaRPr b="1" lang="en-US" sz="2000" spc="-1" strike="noStrike">
              <a:solidFill>
                <a:srgbClr val="000000"/>
              </a:solidFill>
              <a:latin typeface="Arial"/>
            </a:endParaRPr>
          </a:p>
        </p:txBody>
      </p:sp>
      <p:sp>
        <p:nvSpPr>
          <p:cNvPr id="24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istorical price data exist, Standard &amp; Poor's expects that sponsors will have assessed historical and prospective price volatility as part of their analys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have developed analytic techniques such as option pricing and probabilistic modeling as tools for understanding and managing financial and operational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ch techniques can be useful for exploring market dynamics and assessing relationships among key variables, Standard &amp; Poor's notes that the historical data needed to employ these techniques tend not to be sufficient at present to develop reliable predictions or statistically significant inferences for investment-grade transactions. Hence, given the limitations of statistical approaches, statistics will not drive the ratings methodology, but only support the analysis.  </a:t>
            </a:r>
            <a:endParaRPr b="0"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Ashley on Simulation</a:t>
            </a:r>
            <a:endParaRPr b="1" lang="en-US" sz="2000" spc="-1" strike="noStrike">
              <a:solidFill>
                <a:srgbClr val="000000"/>
              </a:solidFill>
              <a:latin typeface="Arial"/>
            </a:endParaRPr>
          </a:p>
        </p:txBody>
      </p:sp>
      <p:sp>
        <p:nvSpPr>
          <p:cNvPr id="24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plausible assumptions for key risk drivers (for example, volatility of gas prices), the ratings are then built around simulating cash flows and debt coverage for individual projects.  These simulations can then determine probability and loss distribution and directly observe the impact on cash flows and riskiness of a particular transaction structure under different market environme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ization of the rating simulations combines market data and expert judgment in a structured way that allows transparency and consistency in risk evaluation without losing the ability to capture the specifics of a transaction structur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d Scenario Analysis</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
          <p:cNvPicPr/>
          <p:nvPr/>
        </p:nvPicPr>
        <p:blipFill>
          <a:blip r:embed="rId1"/>
          <a:stretch/>
        </p:blipFill>
        <p:spPr>
          <a:xfrm>
            <a:off x="533520" y="1143000"/>
            <a:ext cx="7993080" cy="4959360"/>
          </a:xfrm>
          <a:prstGeom prst="rect">
            <a:avLst/>
          </a:prstGeom>
          <a:ln w="0">
            <a:noFill/>
          </a:ln>
        </p:spPr>
      </p:pic>
      <p:sp>
        <p:nvSpPr>
          <p:cNvPr id="251" name="Text Box 5"/>
          <p:cNvSpPr/>
          <p:nvPr/>
        </p:nvSpPr>
        <p:spPr>
          <a:xfrm>
            <a:off x="907560" y="658332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457200" y="1143000"/>
            <a:ext cx="7932600" cy="4627440"/>
          </a:xfrm>
          <a:prstGeom prst="rect">
            <a:avLst/>
          </a:prstGeom>
          <a:ln w="0">
            <a:noFill/>
          </a:ln>
        </p:spPr>
      </p:pic>
      <p:sp>
        <p:nvSpPr>
          <p:cNvPr id="253" name="Text Box 4"/>
          <p:cNvSpPr/>
          <p:nvPr/>
        </p:nvSpPr>
        <p:spPr>
          <a:xfrm>
            <a:off x="907560" y="652464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457200" y="1295280"/>
            <a:ext cx="8244000" cy="4640400"/>
          </a:xfrm>
          <a:prstGeom prst="rect">
            <a:avLst/>
          </a:prstGeom>
          <a:ln w="0">
            <a:noFill/>
          </a:ln>
        </p:spPr>
      </p:pic>
      <p:sp>
        <p:nvSpPr>
          <p:cNvPr id="255" name="Text Box 5"/>
          <p:cNvSpPr/>
          <p:nvPr/>
        </p:nvSpPr>
        <p:spPr>
          <a:xfrm>
            <a:off x="1029600" y="640548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Classifications</a:t>
            </a:r>
            <a:endParaRPr b="1" lang="en-US" sz="2000" spc="-1" strike="noStrike">
              <a:solidFill>
                <a:srgbClr val="000000"/>
              </a:solidFill>
              <a:latin typeface="Arial"/>
            </a:endParaRPr>
          </a:p>
        </p:txBody>
      </p:sp>
      <p:sp>
        <p:nvSpPr>
          <p:cNvPr id="1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ways to classify risk.  (Arguing about which way to classify risks is not very interesting.) Some of the alternatives includ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 versus operation risks according to the phases of project finance</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risks include technological risks while operation risks include market risks.</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ssociated with free cash flow and financing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risks, financial risks and political risks (Yescomb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risks in project finance (Tinsley)</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six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seven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a:t>
            </a:r>
            <a:endParaRPr b="0" lang="en-US" sz="1600" spc="-1" strike="noStrike">
              <a:solidFill>
                <a:srgbClr val="000000"/>
              </a:solidFill>
              <a:latin typeface="Arial"/>
            </a:endParaRPr>
          </a:p>
          <a:p>
            <a:pPr lvl="1" marL="635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3"/>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57" name="Picture 4" descr=""/>
          <p:cNvPicPr/>
          <p:nvPr/>
        </p:nvPicPr>
        <p:blipFill>
          <a:blip r:embed="rId1"/>
          <a:stretch/>
        </p:blipFill>
        <p:spPr>
          <a:xfrm>
            <a:off x="457200" y="990720"/>
            <a:ext cx="8172360" cy="51260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59" name="Picture 4" descr=""/>
          <p:cNvPicPr/>
          <p:nvPr/>
        </p:nvPicPr>
        <p:blipFill>
          <a:blip r:embed="rId1"/>
          <a:stretch/>
        </p:blipFill>
        <p:spPr>
          <a:xfrm>
            <a:off x="380880" y="838080"/>
            <a:ext cx="8244000" cy="48895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767880" y="59436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1" name="Picture 4" descr=""/>
          <p:cNvPicPr/>
          <p:nvPr/>
        </p:nvPicPr>
        <p:blipFill>
          <a:blip r:embed="rId1"/>
          <a:stretch/>
        </p:blipFill>
        <p:spPr>
          <a:xfrm>
            <a:off x="533520" y="914400"/>
            <a:ext cx="8094600" cy="493380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1072440" y="60199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3" name="Picture 4" descr=""/>
          <p:cNvPicPr/>
          <p:nvPr/>
        </p:nvPicPr>
        <p:blipFill>
          <a:blip r:embed="rId1"/>
          <a:stretch/>
        </p:blipFill>
        <p:spPr>
          <a:xfrm>
            <a:off x="533520" y="685800"/>
            <a:ext cx="8172360" cy="461484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92016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5" name="Picture 4" descr=""/>
          <p:cNvPicPr/>
          <p:nvPr/>
        </p:nvPicPr>
        <p:blipFill>
          <a:blip r:embed="rId1"/>
          <a:stretch/>
        </p:blipFill>
        <p:spPr>
          <a:xfrm>
            <a:off x="380880" y="685800"/>
            <a:ext cx="8094960" cy="48736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99648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7" name="Picture 4" descr=""/>
          <p:cNvPicPr/>
          <p:nvPr/>
        </p:nvPicPr>
        <p:blipFill>
          <a:blip r:embed="rId1"/>
          <a:stretch/>
        </p:blipFill>
        <p:spPr>
          <a:xfrm>
            <a:off x="971640" y="1805040"/>
            <a:ext cx="8172360" cy="37116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2"/>
          <p:cNvGrpSpPr/>
          <p:nvPr/>
        </p:nvGrpSpPr>
        <p:grpSpPr>
          <a:xfrm>
            <a:off x="838080" y="1219320"/>
            <a:ext cx="8001000" cy="5333040"/>
            <a:chOff x="838080" y="1219320"/>
            <a:chExt cx="8001000" cy="5333040"/>
          </a:xfrm>
        </p:grpSpPr>
        <p:sp>
          <p:nvSpPr>
            <p:cNvPr id="269" name="Text Box 3"/>
            <p:cNvSpPr/>
            <p:nvPr/>
          </p:nvSpPr>
          <p:spPr>
            <a:xfrm>
              <a:off x="975960" y="1219320"/>
              <a:ext cx="1241280" cy="83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of loss</a:t>
              </a:r>
              <a:endParaRPr b="0" lang="en-US" sz="1400" spc="-1" strike="noStrike">
                <a:solidFill>
                  <a:srgbClr val="000000"/>
                </a:solidFill>
                <a:latin typeface="Arial"/>
              </a:endParaRPr>
            </a:p>
          </p:txBody>
        </p:sp>
        <p:sp>
          <p:nvSpPr>
            <p:cNvPr id="270" name="Line 4"/>
            <p:cNvSpPr/>
            <p:nvPr/>
          </p:nvSpPr>
          <p:spPr>
            <a:xfrm>
              <a:off x="5528160" y="4355280"/>
              <a:ext cx="151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5"/>
            <p:cNvSpPr/>
            <p:nvPr/>
          </p:nvSpPr>
          <p:spPr>
            <a:xfrm flipH="1">
              <a:off x="3045240" y="4355280"/>
              <a:ext cx="9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2" name="Group 6"/>
            <p:cNvGrpSpPr/>
            <p:nvPr/>
          </p:nvGrpSpPr>
          <p:grpSpPr>
            <a:xfrm>
              <a:off x="838080" y="1498320"/>
              <a:ext cx="8001000" cy="5054040"/>
              <a:chOff x="838080" y="1498320"/>
              <a:chExt cx="8001000" cy="5054040"/>
            </a:xfrm>
          </p:grpSpPr>
          <p:sp>
            <p:nvSpPr>
              <p:cNvPr id="273" name="Line 7"/>
              <p:cNvSpPr/>
              <p:nvPr/>
            </p:nvSpPr>
            <p:spPr>
              <a:xfrm>
                <a:off x="838080" y="5636880"/>
                <a:ext cx="7587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8"/>
              <p:cNvSpPr/>
              <p:nvPr/>
            </p:nvSpPr>
            <p:spPr>
              <a:xfrm flipV="1">
                <a:off x="838080" y="1680840"/>
                <a:ext cx="720" cy="37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Freeform 9"/>
              <p:cNvSpPr/>
              <p:nvPr/>
            </p:nvSpPr>
            <p:spPr>
              <a:xfrm>
                <a:off x="838080" y="2340360"/>
                <a:ext cx="7173360" cy="3206160"/>
              </a:xfrm>
              <a:custGeom>
                <a:avLst/>
                <a:gdLst>
                  <a:gd name="textAreaLeft" fmla="*/ 0 w 7173360"/>
                  <a:gd name="textAreaRight" fmla="*/ 7173720 w 7173360"/>
                  <a:gd name="textAreaTop" fmla="*/ 0 h 3206160"/>
                  <a:gd name="textAreaBottom" fmla="*/ 3206520 h 3206160"/>
                </a:gdLst>
                <a:ahLst/>
                <a:rect l="textAreaLeft" t="textAreaTop" r="textAreaRight" b="textAreaBottom"/>
                <a:pathLst>
                  <a:path w="7488" h="2208">
                    <a:moveTo>
                      <a:pt x="0" y="2208"/>
                    </a:moveTo>
                    <a:cubicBezTo>
                      <a:pt x="36" y="2088"/>
                      <a:pt x="72" y="1968"/>
                      <a:pt x="144" y="1776"/>
                    </a:cubicBezTo>
                    <a:cubicBezTo>
                      <a:pt x="216" y="1584"/>
                      <a:pt x="312" y="1320"/>
                      <a:pt x="432" y="1056"/>
                    </a:cubicBezTo>
                    <a:cubicBezTo>
                      <a:pt x="552" y="792"/>
                      <a:pt x="744" y="336"/>
                      <a:pt x="864" y="192"/>
                    </a:cubicBezTo>
                    <a:cubicBezTo>
                      <a:pt x="984" y="48"/>
                      <a:pt x="984" y="0"/>
                      <a:pt x="1152" y="192"/>
                    </a:cubicBezTo>
                    <a:cubicBezTo>
                      <a:pt x="1320" y="384"/>
                      <a:pt x="1584" y="1080"/>
                      <a:pt x="1872" y="1344"/>
                    </a:cubicBezTo>
                    <a:cubicBezTo>
                      <a:pt x="2160" y="1608"/>
                      <a:pt x="2448" y="1680"/>
                      <a:pt x="2880" y="1776"/>
                    </a:cubicBezTo>
                    <a:cubicBezTo>
                      <a:pt x="3312" y="1872"/>
                      <a:pt x="3936" y="1872"/>
                      <a:pt x="4464" y="1920"/>
                    </a:cubicBezTo>
                    <a:cubicBezTo>
                      <a:pt x="4992" y="1968"/>
                      <a:pt x="5712" y="2040"/>
                      <a:pt x="6048" y="2064"/>
                    </a:cubicBezTo>
                    <a:cubicBezTo>
                      <a:pt x="6384" y="2088"/>
                      <a:pt x="6240" y="2064"/>
                      <a:pt x="6480" y="2064"/>
                    </a:cubicBezTo>
                    <a:cubicBezTo>
                      <a:pt x="6720" y="2064"/>
                      <a:pt x="7320" y="2064"/>
                      <a:pt x="7488" y="206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3045240" y="2157480"/>
                <a:ext cx="720" cy="376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11"/>
              <p:cNvSpPr/>
              <p:nvPr/>
            </p:nvSpPr>
            <p:spPr>
              <a:xfrm>
                <a:off x="2493360" y="1498320"/>
                <a:ext cx="1655280" cy="62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lable Loss</a:t>
                </a:r>
                <a:endParaRPr b="0" lang="en-US" sz="1400" spc="-1" strike="noStrike">
                  <a:solidFill>
                    <a:srgbClr val="000000"/>
                  </a:solidFill>
                  <a:latin typeface="Arial"/>
                </a:endParaRPr>
              </a:p>
            </p:txBody>
          </p:sp>
          <p:sp>
            <p:nvSpPr>
              <p:cNvPr id="278" name="Line 12"/>
              <p:cNvSpPr/>
              <p:nvPr/>
            </p:nvSpPr>
            <p:spPr>
              <a:xfrm>
                <a:off x="7045560" y="2157480"/>
                <a:ext cx="0" cy="395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13"/>
              <p:cNvSpPr/>
              <p:nvPr/>
            </p:nvSpPr>
            <p:spPr>
              <a:xfrm>
                <a:off x="7459560" y="5893200"/>
                <a:ext cx="137916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loss </a:t>
                </a:r>
                <a:endParaRPr b="0" lang="en-US" sz="1400" spc="-1" strike="noStrike">
                  <a:solidFill>
                    <a:srgbClr val="000000"/>
                  </a:solidFill>
                  <a:latin typeface="Arial"/>
                </a:endParaRPr>
              </a:p>
            </p:txBody>
          </p:sp>
          <p:sp>
            <p:nvSpPr>
              <p:cNvPr id="280" name="Text Box 14"/>
              <p:cNvSpPr/>
              <p:nvPr/>
            </p:nvSpPr>
            <p:spPr>
              <a:xfrm>
                <a:off x="5390280" y="1498320"/>
                <a:ext cx="317268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astrophic Loss Leading to Default </a:t>
                </a:r>
                <a:endParaRPr b="0" lang="en-US" sz="1400" spc="-1" strike="noStrike">
                  <a:solidFill>
                    <a:srgbClr val="000000"/>
                  </a:solidFill>
                  <a:latin typeface="Arial"/>
                </a:endParaRPr>
              </a:p>
            </p:txBody>
          </p:sp>
          <p:sp>
            <p:nvSpPr>
              <p:cNvPr id="281" name="Text Box 15"/>
              <p:cNvSpPr/>
              <p:nvPr/>
            </p:nvSpPr>
            <p:spPr>
              <a:xfrm>
                <a:off x="1251720" y="2929680"/>
                <a:ext cx="1517400" cy="2523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Managed by Strategic, Operational, and Financial Means </a:t>
                </a:r>
                <a:endParaRPr b="0" lang="en-US" sz="1400" spc="-1" strike="noStrike">
                  <a:solidFill>
                    <a:srgbClr val="000000"/>
                  </a:solidFill>
                  <a:latin typeface="Arial"/>
                </a:endParaRPr>
              </a:p>
            </p:txBody>
          </p:sp>
          <p:sp>
            <p:nvSpPr>
              <p:cNvPr id="282" name="Text Box 16"/>
              <p:cNvSpPr/>
              <p:nvPr/>
            </p:nvSpPr>
            <p:spPr>
              <a:xfrm>
                <a:off x="4010760" y="3588840"/>
                <a:ext cx="1517400" cy="1211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Covered By Insurance</a:t>
                </a:r>
                <a:endParaRPr b="0" lang="en-US" sz="1400" spc="-1" strike="noStrike">
                  <a:solidFill>
                    <a:srgbClr val="000000"/>
                  </a:solidFill>
                  <a:latin typeface="Arial"/>
                </a:endParaRPr>
              </a:p>
            </p:txBody>
          </p:sp>
          <p:sp>
            <p:nvSpPr>
              <p:cNvPr id="283" name="AutoShape 17"/>
              <p:cNvSpPr/>
              <p:nvPr/>
            </p:nvSpPr>
            <p:spPr>
              <a:xfrm>
                <a:off x="7183800" y="2377080"/>
                <a:ext cx="1655280" cy="241704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Text Box 18"/>
              <p:cNvSpPr/>
              <p:nvPr/>
            </p:nvSpPr>
            <p:spPr>
              <a:xfrm>
                <a:off x="7459560" y="3256200"/>
                <a:ext cx="96552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a:t>
                </a:r>
                <a:endParaRPr b="0" lang="en-US" sz="1400" spc="-1" strike="noStrike">
                  <a:solidFill>
                    <a:srgbClr val="000000"/>
                  </a:solidFill>
                  <a:latin typeface="Arial"/>
                </a:endParaRPr>
              </a:p>
            </p:txBody>
          </p:sp>
        </p:grpSp>
      </p:grpSp>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Reference)</a:t>
            </a:r>
            <a:endParaRPr b="1"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s between risks and value chain processes (Reference)</a:t>
            </a:r>
            <a:endParaRPr b="1" lang="en-US" sz="2000" spc="-1" strike="noStrike">
              <a:solidFill>
                <a:srgbClr val="000000"/>
              </a:solidFill>
              <a:latin typeface="Arial"/>
            </a:endParaRPr>
          </a:p>
        </p:txBody>
      </p:sp>
      <p:graphicFrame>
        <p:nvGraphicFramePr>
          <p:cNvPr id="287" name="Object 3"/>
          <p:cNvGraphicFramePr/>
          <p:nvPr/>
        </p:nvGraphicFramePr>
        <p:xfrm>
          <a:off x="457200" y="1371600"/>
          <a:ext cx="8305920" cy="4948200"/>
        </p:xfrm>
        <a:graphic>
          <a:graphicData uri="http://schemas.openxmlformats.org/presentationml/2006/ole">
            <p:oleObj progId="Word.Document.12" r:id="rId1" spid="">
              <p:embed/>
              <p:pic>
                <p:nvPicPr>
                  <p:cNvPr id="288" name="Object 3" descr=""/>
                  <p:cNvPicPr/>
                  <p:nvPr/>
                </p:nvPicPr>
                <p:blipFill>
                  <a:blip r:embed="rId2"/>
                  <a:stretch/>
                </p:blipFill>
                <p:spPr>
                  <a:xfrm>
                    <a:off x="457200" y="1371600"/>
                    <a:ext cx="8305920" cy="4948200"/>
                  </a:xfrm>
                  <a:prstGeom prst="rect">
                    <a:avLst/>
                  </a:prstGeom>
                  <a:ln w="44280">
                    <a:solidFill>
                      <a:srgbClr val="000000"/>
                    </a:solidFill>
                    <a:miter/>
                  </a:ln>
                </p:spPr>
              </p:pic>
            </p:oleObj>
          </a:graphicData>
        </a:graphic>
      </p:graphicFrame>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Object 2"/>
          <p:cNvGraphicFramePr/>
          <p:nvPr/>
        </p:nvGraphicFramePr>
        <p:xfrm>
          <a:off x="304920" y="1447920"/>
          <a:ext cx="8381880" cy="4987800"/>
        </p:xfrm>
        <a:graphic>
          <a:graphicData uri="http://schemas.openxmlformats.org/presentationml/2006/ole">
            <p:oleObj progId="Word.Document.12" r:id="rId1" spid="">
              <p:embed/>
              <p:pic>
                <p:nvPicPr>
                  <p:cNvPr id="290" name="Object 2" descr=""/>
                  <p:cNvPicPr/>
                  <p:nvPr/>
                </p:nvPicPr>
                <p:blipFill>
                  <a:blip r:embed="rId2"/>
                  <a:stretch/>
                </p:blipFill>
                <p:spPr>
                  <a:xfrm>
                    <a:off x="304920" y="1447920"/>
                    <a:ext cx="8381880" cy="4987800"/>
                  </a:xfrm>
                  <a:prstGeom prst="rect">
                    <a:avLst/>
                  </a:prstGeom>
                  <a:ln w="0">
                    <a:noFill/>
                  </a:ln>
                </p:spPr>
              </p:pic>
            </p:oleObj>
          </a:graphicData>
        </a:graphic>
      </p:graphicFrame>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trategic Risk Management (Reference)</a:t>
            </a:r>
            <a:endParaRPr b="1" lang="en-US" sz="20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685800" y="1219320"/>
            <a:ext cx="8228520" cy="4800600"/>
            <a:chOff x="685800" y="1219320"/>
            <a:chExt cx="8228520" cy="4800600"/>
          </a:xfrm>
        </p:grpSpPr>
        <p:sp>
          <p:nvSpPr>
            <p:cNvPr id="293" name="Rectangle 3"/>
            <p:cNvSpPr/>
            <p:nvPr/>
          </p:nvSpPr>
          <p:spPr>
            <a:xfrm>
              <a:off x="4685400" y="3589200"/>
              <a:ext cx="1153440" cy="792360"/>
            </a:xfrm>
            <a:prstGeom prst="rect">
              <a:avLst/>
            </a:prstGeom>
            <a:solidFill>
              <a:srgbClr val="00ffcc"/>
            </a:solid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Formulation</a:t>
              </a:r>
              <a:endParaRPr b="0" lang="en-US" sz="1300" spc="-1" strike="noStrike">
                <a:solidFill>
                  <a:srgbClr val="000000"/>
                </a:solidFill>
                <a:latin typeface="Arial"/>
              </a:endParaRPr>
            </a:p>
          </p:txBody>
        </p:sp>
        <p:grpSp>
          <p:nvGrpSpPr>
            <p:cNvPr id="294" name="Group 4"/>
            <p:cNvGrpSpPr/>
            <p:nvPr/>
          </p:nvGrpSpPr>
          <p:grpSpPr>
            <a:xfrm>
              <a:off x="685800" y="1219320"/>
              <a:ext cx="8228520" cy="4800600"/>
              <a:chOff x="685800" y="1219320"/>
              <a:chExt cx="8228520" cy="4800600"/>
            </a:xfrm>
          </p:grpSpPr>
          <p:grpSp>
            <p:nvGrpSpPr>
              <p:cNvPr id="295" name="Group 5"/>
              <p:cNvGrpSpPr/>
              <p:nvPr/>
            </p:nvGrpSpPr>
            <p:grpSpPr>
              <a:xfrm>
                <a:off x="685800" y="3628080"/>
                <a:ext cx="1462320" cy="518040"/>
                <a:chOff x="685800" y="3628080"/>
                <a:chExt cx="1462320" cy="518040"/>
              </a:xfrm>
            </p:grpSpPr>
            <p:sp>
              <p:nvSpPr>
                <p:cNvPr id="296" name="Rectangle 6"/>
                <p:cNvSpPr/>
                <p:nvPr/>
              </p:nvSpPr>
              <p:spPr>
                <a:xfrm>
                  <a:off x="685800" y="3628080"/>
                  <a:ext cx="1462320" cy="507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7"/>
                <p:cNvSpPr/>
                <p:nvPr/>
              </p:nvSpPr>
              <p:spPr>
                <a:xfrm>
                  <a:off x="812520" y="3689280"/>
                  <a:ext cx="1238400" cy="456840"/>
                </a:xfrm>
                <a:prstGeom prst="rect">
                  <a:avLst/>
                </a:prstGeom>
                <a:solidFill>
                  <a:srgbClr val="eaeaea"/>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Identification</a:t>
                  </a:r>
                  <a:endParaRPr b="0" lang="en-US" sz="1500" spc="-1" strike="noStrike">
                    <a:solidFill>
                      <a:srgbClr val="000000"/>
                    </a:solidFill>
                    <a:latin typeface="Arial"/>
                  </a:endParaRPr>
                </a:p>
              </p:txBody>
            </p:sp>
          </p:grpSp>
          <p:grpSp>
            <p:nvGrpSpPr>
              <p:cNvPr id="298" name="Group 8"/>
              <p:cNvGrpSpPr/>
              <p:nvPr/>
            </p:nvGrpSpPr>
            <p:grpSpPr>
              <a:xfrm>
                <a:off x="2682360" y="3630960"/>
                <a:ext cx="1463760" cy="505080"/>
                <a:chOff x="2682360" y="3630960"/>
                <a:chExt cx="1463760" cy="505080"/>
              </a:xfrm>
            </p:grpSpPr>
            <p:sp>
              <p:nvSpPr>
                <p:cNvPr id="299" name="Rectangle 9"/>
                <p:cNvSpPr/>
                <p:nvPr/>
              </p:nvSpPr>
              <p:spPr>
                <a:xfrm>
                  <a:off x="2682360" y="3630960"/>
                  <a:ext cx="1463760" cy="50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10"/>
                <p:cNvSpPr/>
                <p:nvPr/>
              </p:nvSpPr>
              <p:spPr>
                <a:xfrm>
                  <a:off x="2685240" y="3711600"/>
                  <a:ext cx="1460880" cy="396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Characterization</a:t>
                  </a:r>
                  <a:endParaRPr b="0" lang="en-US" sz="1300" spc="-1" strike="noStrike">
                    <a:solidFill>
                      <a:srgbClr val="000000"/>
                    </a:solidFill>
                    <a:latin typeface="Arial"/>
                  </a:endParaRPr>
                </a:p>
              </p:txBody>
            </p:sp>
          </p:grpSp>
          <p:sp>
            <p:nvSpPr>
              <p:cNvPr id="301" name="Freeform 11"/>
              <p:cNvSpPr/>
              <p:nvPr/>
            </p:nvSpPr>
            <p:spPr>
              <a:xfrm>
                <a:off x="2300760" y="3771360"/>
                <a:ext cx="264240" cy="242640"/>
              </a:xfrm>
              <a:custGeom>
                <a:avLst/>
                <a:gdLst>
                  <a:gd name="textAreaLeft" fmla="*/ 0 w 264240"/>
                  <a:gd name="textAreaRight" fmla="*/ 264600 w 26424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Freeform 12"/>
              <p:cNvSpPr/>
              <p:nvPr/>
            </p:nvSpPr>
            <p:spPr>
              <a:xfrm>
                <a:off x="4266720" y="3771360"/>
                <a:ext cx="263880" cy="242640"/>
              </a:xfrm>
              <a:custGeom>
                <a:avLst/>
                <a:gdLst>
                  <a:gd name="textAreaLeft" fmla="*/ 0 w 263880"/>
                  <a:gd name="textAreaRight" fmla="*/ 264240 w 26388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3"/>
              <p:cNvSpPr/>
              <p:nvPr/>
            </p:nvSpPr>
            <p:spPr>
              <a:xfrm flipV="1">
                <a:off x="5300280" y="2251800"/>
                <a:ext cx="1384200" cy="121500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14"/>
              <p:cNvSpPr/>
              <p:nvPr/>
            </p:nvSpPr>
            <p:spPr>
              <a:xfrm>
                <a:off x="5223240" y="4379040"/>
                <a:ext cx="1461240" cy="11545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15"/>
              <p:cNvSpPr/>
              <p:nvPr/>
            </p:nvSpPr>
            <p:spPr>
              <a:xfrm flipV="1">
                <a:off x="5915520" y="3102840"/>
                <a:ext cx="768960" cy="3643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16"/>
              <p:cNvSpPr/>
              <p:nvPr/>
            </p:nvSpPr>
            <p:spPr>
              <a:xfrm>
                <a:off x="5915520" y="4379040"/>
                <a:ext cx="768960" cy="30384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17"/>
              <p:cNvSpPr/>
              <p:nvPr/>
            </p:nvSpPr>
            <p:spPr>
              <a:xfrm>
                <a:off x="5992560" y="3893040"/>
                <a:ext cx="691920" cy="0"/>
              </a:xfrm>
              <a:prstGeom prst="line">
                <a:avLst/>
              </a:prstGeom>
              <a:ln w="127080">
                <a:solidFill>
                  <a:srgbClr val="ff0000"/>
                </a:solidFill>
                <a:miter/>
                <a:tailEnd len="sm" type="triangle" w="sm"/>
              </a:ln>
            </p:spPr>
            <p:style>
              <a:lnRef idx="0"/>
              <a:fillRef idx="0"/>
              <a:effectRef idx="0"/>
              <a:fontRef idx="minor"/>
            </p:style>
            <p:txBody>
              <a:bodyPr lIns="91800" rIns="91800" tIns="-45720" bIns="-4572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08" name="Group 18"/>
              <p:cNvGrpSpPr/>
              <p:nvPr/>
            </p:nvGrpSpPr>
            <p:grpSpPr>
              <a:xfrm>
                <a:off x="6761520" y="1219320"/>
                <a:ext cx="2152800" cy="4800600"/>
                <a:chOff x="6761520" y="1219320"/>
                <a:chExt cx="2152800" cy="4800600"/>
              </a:xfrm>
            </p:grpSpPr>
            <p:sp>
              <p:nvSpPr>
                <p:cNvPr id="309" name="Rectangle 19"/>
                <p:cNvSpPr/>
                <p:nvPr/>
              </p:nvSpPr>
              <p:spPr>
                <a:xfrm>
                  <a:off x="6761520" y="1219320"/>
                  <a:ext cx="2152800" cy="4800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0" name="Group 20"/>
                <p:cNvGrpSpPr/>
                <p:nvPr/>
              </p:nvGrpSpPr>
              <p:grpSpPr>
                <a:xfrm>
                  <a:off x="6908400" y="1340640"/>
                  <a:ext cx="1857960" cy="4557240"/>
                  <a:chOff x="6908400" y="1340640"/>
                  <a:chExt cx="1857960" cy="4557240"/>
                </a:xfrm>
              </p:grpSpPr>
              <p:grpSp>
                <p:nvGrpSpPr>
                  <p:cNvPr id="311" name="Group 21"/>
                  <p:cNvGrpSpPr/>
                  <p:nvPr/>
                </p:nvGrpSpPr>
                <p:grpSpPr>
                  <a:xfrm>
                    <a:off x="6908400" y="1948320"/>
                    <a:ext cx="1851480" cy="729000"/>
                    <a:chOff x="6908400" y="1948320"/>
                    <a:chExt cx="1851480" cy="729000"/>
                  </a:xfrm>
                </p:grpSpPr>
                <p:sp>
                  <p:nvSpPr>
                    <p:cNvPr id="312" name="Rectangle 22"/>
                    <p:cNvSpPr/>
                    <p:nvPr/>
                  </p:nvSpPr>
                  <p:spPr>
                    <a:xfrm>
                      <a:off x="6908400" y="194832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23"/>
                    <p:cNvSpPr/>
                    <p:nvPr/>
                  </p:nvSpPr>
                  <p:spPr>
                    <a:xfrm>
                      <a:off x="6991920" y="213048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c Changes </a:t>
                      </a:r>
                      <a:endParaRPr b="0" lang="en-US" sz="1500" spc="-1" strike="noStrike">
                        <a:solidFill>
                          <a:srgbClr val="000000"/>
                        </a:solidFill>
                        <a:latin typeface="Arial"/>
                      </a:endParaRPr>
                    </a:p>
                  </p:txBody>
                </p:sp>
              </p:grpSp>
              <p:grpSp>
                <p:nvGrpSpPr>
                  <p:cNvPr id="314" name="Group 24"/>
                  <p:cNvGrpSpPr/>
                  <p:nvPr/>
                </p:nvGrpSpPr>
                <p:grpSpPr>
                  <a:xfrm>
                    <a:off x="6908400" y="2753280"/>
                    <a:ext cx="1851480" cy="729000"/>
                    <a:chOff x="6908400" y="2753280"/>
                    <a:chExt cx="1851480" cy="729000"/>
                  </a:xfrm>
                </p:grpSpPr>
                <p:sp>
                  <p:nvSpPr>
                    <p:cNvPr id="315" name="Rectangle 25"/>
                    <p:cNvSpPr/>
                    <p:nvPr/>
                  </p:nvSpPr>
                  <p:spPr>
                    <a:xfrm>
                      <a:off x="6908400" y="27532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Rectangle 26"/>
                    <p:cNvSpPr/>
                    <p:nvPr/>
                  </p:nvSpPr>
                  <p:spPr>
                    <a:xfrm>
                      <a:off x="6991920" y="293796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ning/Execution Changes </a:t>
                      </a:r>
                      <a:endParaRPr b="0" lang="en-US" sz="1500" spc="-1" strike="noStrike">
                        <a:solidFill>
                          <a:srgbClr val="000000"/>
                        </a:solidFill>
                        <a:latin typeface="Arial"/>
                      </a:endParaRPr>
                    </a:p>
                  </p:txBody>
                </p:sp>
              </p:grpSp>
              <p:grpSp>
                <p:nvGrpSpPr>
                  <p:cNvPr id="317" name="Group 27"/>
                  <p:cNvGrpSpPr/>
                  <p:nvPr/>
                </p:nvGrpSpPr>
                <p:grpSpPr>
                  <a:xfrm>
                    <a:off x="6908400" y="4363560"/>
                    <a:ext cx="1851480" cy="729000"/>
                    <a:chOff x="6908400" y="4363560"/>
                    <a:chExt cx="1851480" cy="729000"/>
                  </a:xfrm>
                </p:grpSpPr>
                <p:sp>
                  <p:nvSpPr>
                    <p:cNvPr id="318" name="Rectangle 28"/>
                    <p:cNvSpPr/>
                    <p:nvPr/>
                  </p:nvSpPr>
                  <p:spPr>
                    <a:xfrm>
                      <a:off x="6908400" y="436356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Rectangle 29"/>
                    <p:cNvSpPr/>
                    <p:nvPr/>
                  </p:nvSpPr>
                  <p:spPr>
                    <a:xfrm>
                      <a:off x="6991920" y="457740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Risk Management</a:t>
                      </a:r>
                      <a:endParaRPr b="0" lang="en-US" sz="1500" spc="-1" strike="noStrike">
                        <a:solidFill>
                          <a:srgbClr val="000000"/>
                        </a:solidFill>
                        <a:latin typeface="Arial"/>
                      </a:endParaRPr>
                    </a:p>
                  </p:txBody>
                </p:sp>
              </p:grpSp>
              <p:grpSp>
                <p:nvGrpSpPr>
                  <p:cNvPr id="320" name="Group 30"/>
                  <p:cNvGrpSpPr/>
                  <p:nvPr/>
                </p:nvGrpSpPr>
                <p:grpSpPr>
                  <a:xfrm>
                    <a:off x="6908400" y="5168880"/>
                    <a:ext cx="1851480" cy="729000"/>
                    <a:chOff x="6908400" y="5168880"/>
                    <a:chExt cx="1851480" cy="729000"/>
                  </a:xfrm>
                </p:grpSpPr>
                <p:sp>
                  <p:nvSpPr>
                    <p:cNvPr id="321" name="Rectangle 31"/>
                    <p:cNvSpPr/>
                    <p:nvPr/>
                  </p:nvSpPr>
                  <p:spPr>
                    <a:xfrm>
                      <a:off x="6908400" y="51688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Rectangle 32"/>
                    <p:cNvSpPr/>
                    <p:nvPr/>
                  </p:nvSpPr>
                  <p:spPr>
                    <a:xfrm>
                      <a:off x="6991920" y="535356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urance </a:t>
                      </a:r>
                      <a:endParaRPr b="0" lang="en-US" sz="1500" spc="-1" strike="noStrike">
                        <a:solidFill>
                          <a:srgbClr val="000000"/>
                        </a:solidFill>
                        <a:latin typeface="Arial"/>
                      </a:endParaRPr>
                    </a:p>
                  </p:txBody>
                </p:sp>
              </p:grpSp>
              <p:grpSp>
                <p:nvGrpSpPr>
                  <p:cNvPr id="323" name="Group 33"/>
                  <p:cNvGrpSpPr/>
                  <p:nvPr/>
                </p:nvGrpSpPr>
                <p:grpSpPr>
                  <a:xfrm>
                    <a:off x="6914880" y="3558600"/>
                    <a:ext cx="1851480" cy="729000"/>
                    <a:chOff x="6914880" y="3558600"/>
                    <a:chExt cx="1851480" cy="729000"/>
                  </a:xfrm>
                </p:grpSpPr>
                <p:sp>
                  <p:nvSpPr>
                    <p:cNvPr id="324" name="Rectangle 34"/>
                    <p:cNvSpPr/>
                    <p:nvPr/>
                  </p:nvSpPr>
                  <p:spPr>
                    <a:xfrm>
                      <a:off x="6914880" y="355860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Rectangle 35"/>
                    <p:cNvSpPr/>
                    <p:nvPr/>
                  </p:nvSpPr>
                  <p:spPr>
                    <a:xfrm>
                      <a:off x="6998400" y="374328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ganizational Changes</a:t>
                      </a:r>
                      <a:endParaRPr b="0" lang="en-US" sz="1500" spc="-1" strike="noStrike">
                        <a:solidFill>
                          <a:srgbClr val="000000"/>
                        </a:solidFill>
                        <a:latin typeface="Arial"/>
                      </a:endParaRPr>
                    </a:p>
                  </p:txBody>
                </p:sp>
              </p:grpSp>
              <p:sp>
                <p:nvSpPr>
                  <p:cNvPr id="326" name="Rectangle 36"/>
                  <p:cNvSpPr/>
                  <p:nvPr/>
                </p:nvSpPr>
                <p:spPr>
                  <a:xfrm>
                    <a:off x="6914880" y="1340640"/>
                    <a:ext cx="1768320" cy="594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Implementation</a:t>
                    </a:r>
                    <a:endParaRPr b="0" lang="en-US" sz="1300" spc="-1" strike="noStrike">
                      <a:solidFill>
                        <a:srgbClr val="000000"/>
                      </a:solidFill>
                      <a:latin typeface="Arial"/>
                    </a:endParaRPr>
                  </a:p>
                </p:txBody>
              </p:sp>
            </p:grpSp>
          </p:grpSp>
        </p:grpSp>
      </p:grpSp>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Measurement and Mitigation</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hecklist</a:t>
            </a:r>
            <a:endParaRPr b="1" lang="en-US" sz="2000" spc="-1" strike="noStrike">
              <a:solidFill>
                <a:srgbClr val="000000"/>
              </a:solidFill>
              <a:latin typeface="Arial"/>
            </a:endParaRPr>
          </a:p>
        </p:txBody>
      </p:sp>
      <p:sp>
        <p:nvSpPr>
          <p:cNvPr id="116" name="PlaceHolder 2"/>
          <p:cNvSpPr>
            <a:spLocks noGrp="1"/>
          </p:cNvSpPr>
          <p:nvPr>
            <p:ph/>
          </p:nvPr>
        </p:nvSpPr>
        <p:spPr>
          <a:xfrm>
            <a:off x="761760" y="1295280"/>
            <a:ext cx="26938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in the adjacent table illustrates the notion of analyzing different risks and then mitigate the risk</a:t>
            </a:r>
            <a:endParaRPr b="0" lang="en-US" sz="2000" spc="-1" strike="noStrike">
              <a:solidFill>
                <a:srgbClr val="000000"/>
              </a:solidFill>
              <a:latin typeface="Arial"/>
            </a:endParaRPr>
          </a:p>
        </p:txBody>
      </p:sp>
      <p:pic>
        <p:nvPicPr>
          <p:cNvPr id="117" name="Picture 4" descr=""/>
          <p:cNvPicPr/>
          <p:nvPr/>
        </p:nvPicPr>
        <p:blipFill>
          <a:blip r:embed="rId1"/>
          <a:stretch/>
        </p:blipFill>
        <p:spPr>
          <a:xfrm>
            <a:off x="3809880" y="609480"/>
            <a:ext cx="3963960" cy="548640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lternative Risk Classifications</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Risk Analysis with Free Cash Flow Value Drivers – Project Risks</a:t>
            </a: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prices and contract sustainability (Oil, electricity, toll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capacity utilization (Traffic, wind, market capacity f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of off-taker (PPA, country risk)</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in converting inputs to outputs (Heat rate, input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 and maintenance expense volatility (Avail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Capital Expenditures (Gearboxes)</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and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u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d protection of construction company</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ategorization of Six Risks</a:t>
            </a:r>
            <a:endParaRPr b="1" lang="en-US" sz="2000" spc="-1" strike="noStrike">
              <a:solidFill>
                <a:srgbClr val="000000"/>
              </a:solidFill>
              <a:latin typeface="Arial"/>
            </a:endParaRPr>
          </a:p>
        </p:txBody>
      </p:sp>
      <p:sp>
        <p:nvSpPr>
          <p:cNvPr id="33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bjective of its analysis determines how well a project can sustain ongoing commercial operations through the term of the rated debt, and, as a consequence, how well the project will be able to service its obligations (financial as well as operational) on time and in full. Project level risks are those intrinsic to the project's business and the industry in which it operates (e.g., a merchant power plant selling power into the U.K. electricity sector). Broadly, there are six steps to assessing project level risk:   </a:t>
            </a:r>
            <a:endParaRPr b="0" lang="en-US" sz="18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roject </a:t>
            </a:r>
            <a:r>
              <a:rPr b="1" i="1" lang="en-US" sz="1800" spc="-1" strike="noStrike">
                <a:solidFill>
                  <a:srgbClr val="000000"/>
                </a:solidFill>
                <a:latin typeface="Arial"/>
              </a:rPr>
              <a:t>operational and financing contracts</a:t>
            </a:r>
            <a:r>
              <a:rPr b="0" lang="en-US" sz="1600" spc="-1" strike="noStrike">
                <a:solidFill>
                  <a:srgbClr val="000000"/>
                </a:solidFill>
                <a:latin typeface="Arial"/>
              </a:rPr>
              <a:t> that, along with the project's physical plant, serve as the basis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the </a:t>
            </a:r>
            <a:r>
              <a:rPr b="1" i="1" lang="en-US" sz="1800" spc="-1" strike="noStrike">
                <a:solidFill>
                  <a:srgbClr val="000000"/>
                </a:solidFill>
                <a:latin typeface="Arial"/>
              </a:rPr>
              <a:t>technology and performance</a:t>
            </a:r>
            <a:r>
              <a:rPr b="0" lang="en-US" sz="1600" spc="-1" strike="noStrike">
                <a:solidFill>
                  <a:srgbClr val="000000"/>
                </a:solidFill>
                <a:latin typeface="Arial"/>
              </a:rPr>
              <a:t>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the </a:t>
            </a:r>
            <a:r>
              <a:rPr b="1" i="1" lang="en-US" sz="1800" spc="-1" strike="noStrike">
                <a:solidFill>
                  <a:srgbClr val="000000"/>
                </a:solidFill>
                <a:latin typeface="Arial"/>
              </a:rPr>
              <a:t>competitive position</a:t>
            </a:r>
            <a:r>
              <a:rPr b="0" lang="en-US" sz="1600" spc="-1" strike="noStrike">
                <a:solidFill>
                  <a:srgbClr val="000000"/>
                </a:solidFill>
                <a:latin typeface="Arial"/>
              </a:rPr>
              <a:t> of the project;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risk that </a:t>
            </a:r>
            <a:r>
              <a:rPr b="1" i="1" lang="en-US" sz="1800" spc="-1" strike="noStrike">
                <a:solidFill>
                  <a:srgbClr val="000000"/>
                </a:solidFill>
                <a:latin typeface="Arial"/>
              </a:rPr>
              <a:t>counterparties </a:t>
            </a:r>
            <a:r>
              <a:rPr b="0" lang="en-US" sz="1600" spc="-1" strike="noStrike">
                <a:solidFill>
                  <a:srgbClr val="000000"/>
                </a:solidFill>
                <a:latin typeface="Arial"/>
              </a:rPr>
              <a:t>present to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aise the project's </a:t>
            </a:r>
            <a:r>
              <a:rPr b="1" i="1" lang="en-US" sz="1800" spc="-1" strike="noStrike">
                <a:solidFill>
                  <a:srgbClr val="000000"/>
                </a:solidFill>
                <a:latin typeface="Arial"/>
              </a:rPr>
              <a:t>legal structure</a:t>
            </a:r>
            <a:r>
              <a:rPr b="0" lang="en-US" sz="1600" spc="-1" strike="noStrike">
                <a:solidFill>
                  <a:srgbClr val="000000"/>
                </a:solidFill>
                <a:latin typeface="Arial"/>
              </a:rPr>
              <a:t>; and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a:t>
            </a:r>
            <a:r>
              <a:rPr b="1" i="1" lang="en-US" sz="1800" spc="-1" strike="noStrike">
                <a:solidFill>
                  <a:srgbClr val="000000"/>
                </a:solidFill>
                <a:latin typeface="Arial"/>
              </a:rPr>
              <a:t>financial risks</a:t>
            </a:r>
            <a:r>
              <a:rPr b="0" lang="en-US" sz="1600" spc="-1" strike="noStrike">
                <a:solidFill>
                  <a:srgbClr val="000000"/>
                </a:solidFill>
                <a:latin typeface="Arial"/>
              </a:rPr>
              <a:t> that may affect forecast results. </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of Risk (Yescombe)</a:t>
            </a:r>
            <a:endParaRPr b="1" lang="en-US" sz="2000" spc="-1" strike="noStrike">
              <a:solidFill>
                <a:srgbClr val="000000"/>
              </a:solidFill>
              <a:latin typeface="Arial"/>
            </a:endParaRPr>
          </a:p>
        </p:txBody>
      </p:sp>
      <p:sp>
        <p:nvSpPr>
          <p:cNvPr id="3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iability, completion risks, operating risks, revenue risks, input supply risks, force majure risks, contract mismatch, sponsor suppor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s, interest rates and other market risks not directly related to the projec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expropriation, currency convertibility and transferability, and political violence, including war, sabotage or terrorism.</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of unanticipated changes in regulations or failure by the government to implement tariff adjustments because of political considerations.</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si commercial risks arising when the project is facing state-owned suppliers or customers, whose ability or willingness to fulfill their contract obligations towards the project is questionable.</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Risks in Project Finance</a:t>
            </a:r>
            <a:endParaRPr b="1" lang="en-US" sz="2000" spc="-1" strike="noStrike">
              <a:solidFill>
                <a:srgbClr val="000000"/>
              </a:solidFill>
              <a:latin typeface="Arial"/>
            </a:endParaRPr>
          </a:p>
        </p:txBody>
      </p:sp>
      <p:sp>
        <p:nvSpPr>
          <p:cNvPr id="3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a:t>
            </a:r>
            <a:r>
              <a:rPr b="0" lang="en-US" sz="1200" spc="-1" strike="noStrike">
                <a:solidFill>
                  <a:srgbClr val="000000"/>
                </a:solidFill>
                <a:latin typeface="Arial"/>
              </a:rPr>
              <a:t>	</a:t>
            </a:r>
            <a:r>
              <a:rPr b="0" lang="en-US" sz="1200" spc="-1" strike="noStrike">
                <a:solidFill>
                  <a:srgbClr val="000000"/>
                </a:solidFill>
                <a:latin typeface="Arial"/>
              </a:rPr>
              <a:t>Techn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nageme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ce Maje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 Exchang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ineering</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dica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ing/Intere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al</a:t>
            </a:r>
            <a:endParaRPr b="0" lang="en-US" sz="1200" spc="-1" strike="noStrike">
              <a:solidFill>
                <a:srgbClr val="000000"/>
              </a:solidFill>
              <a:latin typeface="Arial"/>
            </a:endParaRPr>
          </a:p>
        </p:txBody>
      </p:sp>
      <p:sp>
        <p:nvSpPr>
          <p:cNvPr id="337" name="Text Box 4"/>
          <p:cNvSpPr/>
          <p:nvPr/>
        </p:nvSpPr>
        <p:spPr>
          <a:xfrm>
            <a:off x="5105520" y="1295280"/>
            <a:ext cx="2895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ject finance folder to consider how these risks are defined and classified.</a:t>
            </a:r>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During the Construction Phase</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fter Completion</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Rating Agency Risk Classification</a:t>
            </a:r>
            <a:endParaRPr b="1" lang="en-US" sz="2000" spc="-1" strike="noStrike">
              <a:solidFill>
                <a:srgbClr val="000000"/>
              </a:solidFill>
              <a:latin typeface="Arial"/>
            </a:endParaRPr>
          </a:p>
        </p:txBody>
      </p:sp>
      <p:sp>
        <p:nvSpPr>
          <p:cNvPr id="3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roject</a:t>
            </a:r>
            <a:endParaRPr b="0" lang="en-US" sz="16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have long-term contracts from credit worthy entitie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tput, input, O&amp;M</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beyond the term of the financing</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allocation of risk to parties best suited to take risk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 assure that DSCR is sufficient to ensure uninterrupted debt service</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roject cost to others in the market</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ricing should reflect market-based financing</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e exchange rate risk through denominating revenues in appropriate currenc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echnical, managerial and financial capabilities</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reliable technology</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sibility stud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Country</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to proceeding, Legal and regulatory</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dity price (Non-contract project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and capacity expans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 prices and volatil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trends and long-term equilibriu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oductivity and technology chang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elastic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marginal cost of product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es and product differentiation</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sustainabilit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quality of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viability of projec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structure</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a:t>
            </a:r>
            <a:endParaRPr b="1" lang="en-US" sz="2000" spc="-1" strike="noStrike">
              <a:solidFill>
                <a:srgbClr val="000000"/>
              </a:solidFill>
              <a:latin typeface="Arial"/>
            </a:endParaRPr>
          </a:p>
        </p:txBody>
      </p:sp>
      <p:sp>
        <p:nvSpPr>
          <p:cNvPr id="3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 continued</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dging of commodity pric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project relative to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nsurance for contract performance</a:t>
            </a:r>
            <a:endParaRPr b="0" lang="en-US" sz="14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down, repairs and scheduled mainten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increases in productiv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changes that reduce competitivenes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Currency and Political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isks and law chang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opriation</a:t>
            </a:r>
            <a:endParaRPr b="0" lang="en-US" sz="1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Checklist</a:t>
            </a: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iscusses mitigation of risk in a similar order as the discussion of project risks abov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construction risk with EPC contracts and Insurance</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revenue and operating cost risk with contract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market risks through hedging and other techniqu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risks, a technique often used is to list the risk category, the specific risks of the project in each category and the mitigation of the risk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ers’ approach is that risks should be allocated to those best able to bear them, e.g.:</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ontractors (construction / F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s investor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last of all to the funders</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6-25T17:29:37Z</dcterms:modified>
  <cp:revision>363</cp:revision>
  <dc:subject/>
  <dc:title>Risk Analysis in Project Finance </dc:title>
</cp:coreProperties>
</file>